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27.pct" ContentType="image/x-pict"/>
  <Override PartName="/ppt/media/image26.pct" ContentType="image/x-pict"/>
  <Override PartName="/ppt/media/image29.png" ContentType="image/png"/>
  <Override PartName="/ppt/media/image25.pct" ContentType="image/x-pict"/>
  <Override PartName="/ppt/media/image24.pct" ContentType="image/x-pict"/>
  <Override PartName="/ppt/media/image6.png" ContentType="image/png"/>
  <Override PartName="/ppt/media/image11.png" ContentType="image/png"/>
  <Override PartName="/ppt/media/image20.pct" ContentType="image/x-pict"/>
  <Override PartName="/ppt/media/image7.png" ContentType="image/png"/>
  <Override PartName="/ppt/media/image32.png" ContentType="image/png"/>
  <Override PartName="/ppt/media/image12.png" ContentType="image/png"/>
  <Override PartName="/ppt/media/image21.pct" ContentType="image/x-pict"/>
  <Override PartName="/ppt/media/image19.pct" ContentType="image/x-pict"/>
  <Override PartName="/ppt/media/image8.png" ContentType="image/png"/>
  <Override PartName="/ppt/media/image13.png" ContentType="image/png"/>
  <Override PartName="/ppt/media/image22.pct" ContentType="image/x-pict"/>
  <Override PartName="/ppt/media/image9.png" ContentType="image/png"/>
  <Override PartName="/ppt/media/image30.png" ContentType="image/png"/>
  <Override PartName="/ppt/media/image5.png" ContentType="image/png"/>
  <Override PartName="/ppt/media/image10.png" ContentType="image/png"/>
  <Override PartName="/ppt/media/image34.png" ContentType="image/png"/>
  <Override PartName="/ppt/media/image4.png" ContentType="image/png"/>
  <Override PartName="/ppt/media/image33.png" ContentType="image/png"/>
  <Override PartName="/ppt/media/image3.png" ContentType="image/png"/>
  <Override PartName="/ppt/media/image2.jpeg" ContentType="image/jpeg"/>
  <Override PartName="/ppt/media/image28.pct" ContentType="image/x-pict"/>
  <Override PartName="/ppt/media/image31.png" ContentType="image/png"/>
  <Override PartName="/ppt/media/image1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3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47640" y="131760"/>
            <a:ext cx="11709360" cy="12621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65280" y="1393920"/>
            <a:ext cx="11887200" cy="3889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65280" y="5652720"/>
            <a:ext cx="11887200" cy="3889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47640" y="131760"/>
            <a:ext cx="11709360" cy="12621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65280" y="1393920"/>
            <a:ext cx="5800680" cy="81532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6756480" y="1393920"/>
            <a:ext cx="5800680" cy="81532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47640" y="131760"/>
            <a:ext cx="11709360" cy="12621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647640" y="131760"/>
            <a:ext cx="11709360" cy="58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47640" y="131760"/>
            <a:ext cx="11709360" cy="12621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65280" y="1393920"/>
            <a:ext cx="5800680" cy="3889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6756480" y="1393920"/>
            <a:ext cx="5800680" cy="81532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65280" y="5652720"/>
            <a:ext cx="5800680" cy="3889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47640" y="131760"/>
            <a:ext cx="11709360" cy="12621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65280" y="1393920"/>
            <a:ext cx="5800680" cy="81532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6756480" y="1393920"/>
            <a:ext cx="5800680" cy="3889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756480" y="5652720"/>
            <a:ext cx="5800680" cy="3889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47640" y="131760"/>
            <a:ext cx="11709360" cy="12621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65280" y="1393920"/>
            <a:ext cx="5800680" cy="3889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6756480" y="1393920"/>
            <a:ext cx="5800680" cy="3889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665280" y="5652720"/>
            <a:ext cx="11887200" cy="3889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47640" y="131760"/>
            <a:ext cx="11709360" cy="12621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65280" y="1393920"/>
            <a:ext cx="11887200" cy="3889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665280" y="5652720"/>
            <a:ext cx="11887200" cy="3889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47640" y="131760"/>
            <a:ext cx="11709360" cy="12621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65280" y="1393920"/>
            <a:ext cx="5800680" cy="3889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756480" y="1393920"/>
            <a:ext cx="5800680" cy="3889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665280" y="5652720"/>
            <a:ext cx="5800680" cy="3889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6756480" y="5652720"/>
            <a:ext cx="5800680" cy="3889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47640" y="131760"/>
            <a:ext cx="11709360" cy="12621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65280" y="1393920"/>
            <a:ext cx="3827520" cy="3889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84680" y="1393920"/>
            <a:ext cx="3827520" cy="3889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8703720" y="1393920"/>
            <a:ext cx="3827520" cy="3889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665280" y="5652720"/>
            <a:ext cx="3827520" cy="3889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4684680" y="5652720"/>
            <a:ext cx="3827520" cy="3889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8703720" y="5652720"/>
            <a:ext cx="3827520" cy="3889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47640" y="131760"/>
            <a:ext cx="11709360" cy="12621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65280" y="1393920"/>
            <a:ext cx="5800680" cy="3889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756480" y="1393920"/>
            <a:ext cx="5800680" cy="3889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65280" y="5652720"/>
            <a:ext cx="5800680" cy="3889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756480" y="5652720"/>
            <a:ext cx="5800680" cy="3889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47640" y="131760"/>
            <a:ext cx="11709360" cy="12621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665280" y="1393920"/>
            <a:ext cx="11887200" cy="815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47640" y="131760"/>
            <a:ext cx="11709360" cy="12621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65280" y="1393920"/>
            <a:ext cx="11887200" cy="81532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47640" y="131760"/>
            <a:ext cx="11709360" cy="12621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65280" y="1393920"/>
            <a:ext cx="5800680" cy="81532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6756480" y="1393920"/>
            <a:ext cx="5800680" cy="81532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47640" y="131760"/>
            <a:ext cx="11709360" cy="12621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647640" y="131760"/>
            <a:ext cx="11709360" cy="58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47640" y="131760"/>
            <a:ext cx="11709360" cy="12621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65280" y="1393920"/>
            <a:ext cx="5800680" cy="3889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6756480" y="1393920"/>
            <a:ext cx="5800680" cy="81532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65280" y="5652720"/>
            <a:ext cx="5800680" cy="3889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47640" y="131760"/>
            <a:ext cx="11709360" cy="12621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65280" y="1393920"/>
            <a:ext cx="5800680" cy="81532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6756480" y="1393920"/>
            <a:ext cx="5800680" cy="3889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756480" y="5652720"/>
            <a:ext cx="5800680" cy="3889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47640" y="131760"/>
            <a:ext cx="11709360" cy="12621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65280" y="1393920"/>
            <a:ext cx="5800680" cy="3889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6756480" y="1393920"/>
            <a:ext cx="5800680" cy="3889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65280" y="5652720"/>
            <a:ext cx="11887200" cy="3889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47640" y="131760"/>
            <a:ext cx="11709360" cy="12621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65280" y="1393920"/>
            <a:ext cx="11887200" cy="3889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665280" y="5652720"/>
            <a:ext cx="11887200" cy="3889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47640" y="131760"/>
            <a:ext cx="11709360" cy="12621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65280" y="1393920"/>
            <a:ext cx="5800680" cy="3889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6756480" y="1393920"/>
            <a:ext cx="5800680" cy="3889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65280" y="5652720"/>
            <a:ext cx="5800680" cy="3889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6756480" y="5652720"/>
            <a:ext cx="5800680" cy="3889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47640" y="131760"/>
            <a:ext cx="11709360" cy="12621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65280" y="1393920"/>
            <a:ext cx="3827520" cy="3889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4680" y="1393920"/>
            <a:ext cx="3827520" cy="3889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703720" y="1393920"/>
            <a:ext cx="3827520" cy="3889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65280" y="5652720"/>
            <a:ext cx="3827520" cy="3889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684680" y="5652720"/>
            <a:ext cx="3827520" cy="3889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703720" y="5652720"/>
            <a:ext cx="3827520" cy="3889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47640" y="131760"/>
            <a:ext cx="11709360" cy="12621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65280" y="1393920"/>
            <a:ext cx="3827520" cy="3889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84680" y="1393920"/>
            <a:ext cx="3827520" cy="3889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8703720" y="1393920"/>
            <a:ext cx="3827520" cy="3889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665280" y="5652720"/>
            <a:ext cx="3827520" cy="3889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/>
          </p:nvPr>
        </p:nvSpPr>
        <p:spPr>
          <a:xfrm>
            <a:off x="4684680" y="5652720"/>
            <a:ext cx="3827520" cy="3889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4" name="PlaceHolder 7"/>
          <p:cNvSpPr>
            <a:spLocks noGrp="1"/>
          </p:cNvSpPr>
          <p:nvPr>
            <p:ph/>
          </p:nvPr>
        </p:nvSpPr>
        <p:spPr>
          <a:xfrm>
            <a:off x="8703720" y="5652720"/>
            <a:ext cx="3827520" cy="3889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47640" y="131760"/>
            <a:ext cx="11709360" cy="12621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665280" y="1393920"/>
            <a:ext cx="11887200" cy="815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47640" y="131760"/>
            <a:ext cx="11709360" cy="12621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65280" y="1393920"/>
            <a:ext cx="11887200" cy="81532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47640" y="131760"/>
            <a:ext cx="11709360" cy="12621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665280" y="1393920"/>
            <a:ext cx="5800680" cy="81532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6756480" y="1393920"/>
            <a:ext cx="5800680" cy="81532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47640" y="131760"/>
            <a:ext cx="11709360" cy="12621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647640" y="131760"/>
            <a:ext cx="11709360" cy="58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47640" y="131760"/>
            <a:ext cx="11709360" cy="12621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65280" y="1393920"/>
            <a:ext cx="5800680" cy="3889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6756480" y="1393920"/>
            <a:ext cx="5800680" cy="81532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665280" y="5652720"/>
            <a:ext cx="5800680" cy="3889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47640" y="131760"/>
            <a:ext cx="11709360" cy="12621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65280" y="1393920"/>
            <a:ext cx="5800680" cy="81532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6756480" y="1393920"/>
            <a:ext cx="5800680" cy="3889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756480" y="5652720"/>
            <a:ext cx="5800680" cy="3889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47640" y="131760"/>
            <a:ext cx="11709360" cy="12621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65280" y="1393920"/>
            <a:ext cx="5800680" cy="3889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6756480" y="1393920"/>
            <a:ext cx="5800680" cy="3889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65280" y="5652720"/>
            <a:ext cx="11887200" cy="3889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47640" y="131760"/>
            <a:ext cx="11709360" cy="12621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665280" y="1393920"/>
            <a:ext cx="11887200" cy="3889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665280" y="5652720"/>
            <a:ext cx="11887200" cy="3889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47640" y="131760"/>
            <a:ext cx="11709360" cy="12621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65280" y="1393920"/>
            <a:ext cx="5800680" cy="3889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6756480" y="1393920"/>
            <a:ext cx="5800680" cy="3889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65280" y="5652720"/>
            <a:ext cx="5800680" cy="3889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6756480" y="5652720"/>
            <a:ext cx="5800680" cy="3889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47640" y="131760"/>
            <a:ext cx="11709360" cy="12621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65280" y="1393920"/>
            <a:ext cx="3827520" cy="3889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84680" y="1393920"/>
            <a:ext cx="3827520" cy="3889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8703720" y="1393920"/>
            <a:ext cx="3827520" cy="3889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665280" y="5652720"/>
            <a:ext cx="3827520" cy="3889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4684680" y="5652720"/>
            <a:ext cx="3827520" cy="3889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8703720" y="5652720"/>
            <a:ext cx="3827520" cy="3889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47640" y="131760"/>
            <a:ext cx="11709360" cy="12621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665280" y="1393920"/>
            <a:ext cx="11887200" cy="815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47640" y="131760"/>
            <a:ext cx="11709360" cy="12621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65280" y="1393920"/>
            <a:ext cx="11887200" cy="81532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47640" y="131760"/>
            <a:ext cx="11709360" cy="12621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65280" y="1393920"/>
            <a:ext cx="5800680" cy="81532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6756480" y="1393920"/>
            <a:ext cx="5800680" cy="81532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47640" y="131760"/>
            <a:ext cx="11709360" cy="12621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647640" y="131760"/>
            <a:ext cx="11709360" cy="58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47640" y="131760"/>
            <a:ext cx="11709360" cy="12621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65280" y="1393920"/>
            <a:ext cx="5800680" cy="3889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6756480" y="1393920"/>
            <a:ext cx="5800680" cy="81532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65280" y="5652720"/>
            <a:ext cx="5800680" cy="3889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47640" y="131760"/>
            <a:ext cx="11709360" cy="12621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65280" y="1393920"/>
            <a:ext cx="11887200" cy="815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47640" y="131760"/>
            <a:ext cx="11709360" cy="12621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65280" y="1393920"/>
            <a:ext cx="5800680" cy="81532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756480" y="1393920"/>
            <a:ext cx="5800680" cy="3889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6756480" y="5652720"/>
            <a:ext cx="5800680" cy="3889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47640" y="131760"/>
            <a:ext cx="11709360" cy="12621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65280" y="1393920"/>
            <a:ext cx="5800680" cy="3889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6756480" y="1393920"/>
            <a:ext cx="5800680" cy="3889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65280" y="5652720"/>
            <a:ext cx="11887200" cy="3889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47640" y="131760"/>
            <a:ext cx="11709360" cy="12621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65280" y="1393920"/>
            <a:ext cx="11887200" cy="3889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65280" y="5652720"/>
            <a:ext cx="11887200" cy="3889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47640" y="131760"/>
            <a:ext cx="11709360" cy="12621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65280" y="1393920"/>
            <a:ext cx="5800680" cy="3889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6756480" y="1393920"/>
            <a:ext cx="5800680" cy="3889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665280" y="5652720"/>
            <a:ext cx="5800680" cy="3889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6756480" y="5652720"/>
            <a:ext cx="5800680" cy="3889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47640" y="131760"/>
            <a:ext cx="11709360" cy="12621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65280" y="1393920"/>
            <a:ext cx="3827520" cy="3889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84680" y="1393920"/>
            <a:ext cx="3827520" cy="3889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8703720" y="1393920"/>
            <a:ext cx="3827520" cy="3889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665280" y="5652720"/>
            <a:ext cx="3827520" cy="3889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4684680" y="5652720"/>
            <a:ext cx="3827520" cy="3889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8703720" y="5652720"/>
            <a:ext cx="3827520" cy="3889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47640" y="131760"/>
            <a:ext cx="11709360" cy="12621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subTitle"/>
          </p:nvPr>
        </p:nvSpPr>
        <p:spPr>
          <a:xfrm>
            <a:off x="665280" y="1393920"/>
            <a:ext cx="11887200" cy="815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47640" y="131760"/>
            <a:ext cx="11709360" cy="12621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65280" y="1393920"/>
            <a:ext cx="11887200" cy="81532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47640" y="131760"/>
            <a:ext cx="11709360" cy="12621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665280" y="1393920"/>
            <a:ext cx="5800680" cy="81532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6756480" y="1393920"/>
            <a:ext cx="5800680" cy="81532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47640" y="131760"/>
            <a:ext cx="11709360" cy="12621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47640" y="131760"/>
            <a:ext cx="11709360" cy="12621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65280" y="1393920"/>
            <a:ext cx="11887200" cy="81532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ubTitle"/>
          </p:nvPr>
        </p:nvSpPr>
        <p:spPr>
          <a:xfrm>
            <a:off x="647640" y="131760"/>
            <a:ext cx="11709360" cy="58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47640" y="131760"/>
            <a:ext cx="11709360" cy="12621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665280" y="1393920"/>
            <a:ext cx="5800680" cy="3889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6756480" y="1393920"/>
            <a:ext cx="5800680" cy="81532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665280" y="5652720"/>
            <a:ext cx="5800680" cy="3889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47640" y="131760"/>
            <a:ext cx="11709360" cy="12621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65280" y="1393920"/>
            <a:ext cx="5800680" cy="81532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6756480" y="1393920"/>
            <a:ext cx="5800680" cy="3889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756480" y="5652720"/>
            <a:ext cx="5800680" cy="3889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47640" y="131760"/>
            <a:ext cx="11709360" cy="12621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665280" y="1393920"/>
            <a:ext cx="5800680" cy="3889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6756480" y="1393920"/>
            <a:ext cx="5800680" cy="3889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665280" y="5652720"/>
            <a:ext cx="11887200" cy="3889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47640" y="131760"/>
            <a:ext cx="11709360" cy="12621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665280" y="1393920"/>
            <a:ext cx="11887200" cy="3889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665280" y="5652720"/>
            <a:ext cx="11887200" cy="3889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47640" y="131760"/>
            <a:ext cx="11709360" cy="12621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65280" y="1393920"/>
            <a:ext cx="5800680" cy="3889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6756480" y="1393920"/>
            <a:ext cx="5800680" cy="3889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665280" y="5652720"/>
            <a:ext cx="5800680" cy="3889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/>
          </p:nvPr>
        </p:nvSpPr>
        <p:spPr>
          <a:xfrm>
            <a:off x="6756480" y="5652720"/>
            <a:ext cx="5800680" cy="3889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47640" y="131760"/>
            <a:ext cx="11709360" cy="12621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665280" y="1393920"/>
            <a:ext cx="3827520" cy="3889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84680" y="1393920"/>
            <a:ext cx="3827520" cy="3889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8703720" y="1393920"/>
            <a:ext cx="3827520" cy="3889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665280" y="5652720"/>
            <a:ext cx="3827520" cy="3889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0" name="PlaceHolder 6"/>
          <p:cNvSpPr>
            <a:spLocks noGrp="1"/>
          </p:cNvSpPr>
          <p:nvPr>
            <p:ph/>
          </p:nvPr>
        </p:nvSpPr>
        <p:spPr>
          <a:xfrm>
            <a:off x="4684680" y="5652720"/>
            <a:ext cx="3827520" cy="3889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1" name="PlaceHolder 7"/>
          <p:cNvSpPr>
            <a:spLocks noGrp="1"/>
          </p:cNvSpPr>
          <p:nvPr>
            <p:ph/>
          </p:nvPr>
        </p:nvSpPr>
        <p:spPr>
          <a:xfrm>
            <a:off x="8703720" y="5652720"/>
            <a:ext cx="3827520" cy="3889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47640" y="131760"/>
            <a:ext cx="11709360" cy="12621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subTitle"/>
          </p:nvPr>
        </p:nvSpPr>
        <p:spPr>
          <a:xfrm>
            <a:off x="665280" y="1393920"/>
            <a:ext cx="11887200" cy="815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47640" y="131760"/>
            <a:ext cx="11709360" cy="12621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65280" y="1393920"/>
            <a:ext cx="11887200" cy="81532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47640" y="131760"/>
            <a:ext cx="11709360" cy="12621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65280" y="1393920"/>
            <a:ext cx="5800680" cy="81532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756480" y="1393920"/>
            <a:ext cx="5800680" cy="81532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47640" y="131760"/>
            <a:ext cx="11709360" cy="12621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65280" y="1393920"/>
            <a:ext cx="5800680" cy="81532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6756480" y="1393920"/>
            <a:ext cx="5800680" cy="81532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647640" y="131760"/>
            <a:ext cx="11709360" cy="12621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ubTitle"/>
          </p:nvPr>
        </p:nvSpPr>
        <p:spPr>
          <a:xfrm>
            <a:off x="647640" y="131760"/>
            <a:ext cx="11709360" cy="58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47640" y="131760"/>
            <a:ext cx="11709360" cy="12621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665280" y="1393920"/>
            <a:ext cx="5800680" cy="3889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6756480" y="1393920"/>
            <a:ext cx="5800680" cy="81532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665280" y="5652720"/>
            <a:ext cx="5800680" cy="3889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47640" y="131760"/>
            <a:ext cx="11709360" cy="12621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65280" y="1393920"/>
            <a:ext cx="5800680" cy="81532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6756480" y="1393920"/>
            <a:ext cx="5800680" cy="3889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6756480" y="5652720"/>
            <a:ext cx="5800680" cy="3889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47640" y="131760"/>
            <a:ext cx="11709360" cy="12621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665280" y="1393920"/>
            <a:ext cx="5800680" cy="3889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6756480" y="1393920"/>
            <a:ext cx="5800680" cy="3889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665280" y="5652720"/>
            <a:ext cx="11887200" cy="3889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47640" y="131760"/>
            <a:ext cx="11709360" cy="12621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665280" y="1393920"/>
            <a:ext cx="11887200" cy="3889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665280" y="5652720"/>
            <a:ext cx="11887200" cy="3889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47640" y="131760"/>
            <a:ext cx="11709360" cy="12621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665280" y="1393920"/>
            <a:ext cx="5800680" cy="3889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6756480" y="1393920"/>
            <a:ext cx="5800680" cy="3889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65280" y="5652720"/>
            <a:ext cx="5800680" cy="3889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6756480" y="5652720"/>
            <a:ext cx="5800680" cy="3889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47640" y="131760"/>
            <a:ext cx="11709360" cy="12621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65280" y="1393920"/>
            <a:ext cx="3827520" cy="3889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84680" y="1393920"/>
            <a:ext cx="3827520" cy="3889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8703720" y="1393920"/>
            <a:ext cx="3827520" cy="3889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/>
          </p:nvPr>
        </p:nvSpPr>
        <p:spPr>
          <a:xfrm>
            <a:off x="665280" y="5652720"/>
            <a:ext cx="3827520" cy="3889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9" name="PlaceHolder 6"/>
          <p:cNvSpPr>
            <a:spLocks noGrp="1"/>
          </p:cNvSpPr>
          <p:nvPr>
            <p:ph/>
          </p:nvPr>
        </p:nvSpPr>
        <p:spPr>
          <a:xfrm>
            <a:off x="4684680" y="5652720"/>
            <a:ext cx="3827520" cy="3889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0" name="PlaceHolder 7"/>
          <p:cNvSpPr>
            <a:spLocks noGrp="1"/>
          </p:cNvSpPr>
          <p:nvPr>
            <p:ph/>
          </p:nvPr>
        </p:nvSpPr>
        <p:spPr>
          <a:xfrm>
            <a:off x="8703720" y="5652720"/>
            <a:ext cx="3827520" cy="3889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47640" y="131760"/>
            <a:ext cx="11709360" cy="12621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47640" y="131760"/>
            <a:ext cx="11709360" cy="58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47640" y="131760"/>
            <a:ext cx="11709360" cy="12621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65280" y="1393920"/>
            <a:ext cx="5800680" cy="3889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756480" y="1393920"/>
            <a:ext cx="5800680" cy="81532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65280" y="5652720"/>
            <a:ext cx="5800680" cy="3889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47640" y="131760"/>
            <a:ext cx="11709360" cy="12621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65280" y="1393920"/>
            <a:ext cx="11887200" cy="815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47640" y="131760"/>
            <a:ext cx="11709360" cy="12621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65280" y="1393920"/>
            <a:ext cx="5800680" cy="81532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756480" y="1393920"/>
            <a:ext cx="5800680" cy="3889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756480" y="5652720"/>
            <a:ext cx="5800680" cy="3889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47640" y="131760"/>
            <a:ext cx="11709360" cy="12621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65280" y="1393920"/>
            <a:ext cx="5800680" cy="3889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756480" y="1393920"/>
            <a:ext cx="5800680" cy="3889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65280" y="5652720"/>
            <a:ext cx="11887200" cy="3889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47640" y="131760"/>
            <a:ext cx="11709360" cy="12621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65280" y="1393920"/>
            <a:ext cx="11887200" cy="3889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65280" y="5652720"/>
            <a:ext cx="11887200" cy="3889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47640" y="131760"/>
            <a:ext cx="11709360" cy="12621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65280" y="1393920"/>
            <a:ext cx="5800680" cy="3889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756480" y="1393920"/>
            <a:ext cx="5800680" cy="3889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65280" y="5652720"/>
            <a:ext cx="5800680" cy="3889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756480" y="5652720"/>
            <a:ext cx="5800680" cy="3889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47640" y="131760"/>
            <a:ext cx="11709360" cy="12621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65280" y="1393920"/>
            <a:ext cx="3827520" cy="3889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84680" y="1393920"/>
            <a:ext cx="3827520" cy="3889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703720" y="1393920"/>
            <a:ext cx="3827520" cy="3889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65280" y="5652720"/>
            <a:ext cx="3827520" cy="3889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684680" y="5652720"/>
            <a:ext cx="3827520" cy="3889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8703720" y="5652720"/>
            <a:ext cx="3827520" cy="3889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47640" y="131760"/>
            <a:ext cx="11709360" cy="12621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65280" y="1393920"/>
            <a:ext cx="11887200" cy="815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47640" y="131760"/>
            <a:ext cx="11709360" cy="12621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65280" y="1393920"/>
            <a:ext cx="11887200" cy="81532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47640" y="131760"/>
            <a:ext cx="11709360" cy="12621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65280" y="1393920"/>
            <a:ext cx="5800680" cy="81532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756480" y="1393920"/>
            <a:ext cx="5800680" cy="81532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47640" y="131760"/>
            <a:ext cx="11709360" cy="12621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47640" y="131760"/>
            <a:ext cx="11709360" cy="12621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65280" y="1393920"/>
            <a:ext cx="11887200" cy="81532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47640" y="131760"/>
            <a:ext cx="11709360" cy="58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47640" y="131760"/>
            <a:ext cx="11709360" cy="12621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65280" y="1393920"/>
            <a:ext cx="5800680" cy="3889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756480" y="1393920"/>
            <a:ext cx="5800680" cy="81532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65280" y="5652720"/>
            <a:ext cx="5800680" cy="3889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47640" y="131760"/>
            <a:ext cx="11709360" cy="12621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65280" y="1393920"/>
            <a:ext cx="5800680" cy="81532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756480" y="1393920"/>
            <a:ext cx="5800680" cy="3889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756480" y="5652720"/>
            <a:ext cx="5800680" cy="3889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47640" y="131760"/>
            <a:ext cx="11709360" cy="12621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65280" y="1393920"/>
            <a:ext cx="5800680" cy="3889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756480" y="1393920"/>
            <a:ext cx="5800680" cy="3889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65280" y="5652720"/>
            <a:ext cx="11887200" cy="3889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47640" y="131760"/>
            <a:ext cx="11709360" cy="12621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65280" y="1393920"/>
            <a:ext cx="11887200" cy="3889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65280" y="5652720"/>
            <a:ext cx="11887200" cy="3889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47640" y="131760"/>
            <a:ext cx="11709360" cy="12621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65280" y="1393920"/>
            <a:ext cx="5800680" cy="3889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756480" y="1393920"/>
            <a:ext cx="5800680" cy="3889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65280" y="5652720"/>
            <a:ext cx="5800680" cy="3889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6756480" y="5652720"/>
            <a:ext cx="5800680" cy="3889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47640" y="131760"/>
            <a:ext cx="11709360" cy="12621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65280" y="1393920"/>
            <a:ext cx="3827520" cy="3889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84680" y="1393920"/>
            <a:ext cx="3827520" cy="3889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8703720" y="1393920"/>
            <a:ext cx="3827520" cy="3889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65280" y="5652720"/>
            <a:ext cx="3827520" cy="3889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4684680" y="5652720"/>
            <a:ext cx="3827520" cy="3889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8703720" y="5652720"/>
            <a:ext cx="3827520" cy="3889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47640" y="131760"/>
            <a:ext cx="11709360" cy="12621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665280" y="1393920"/>
            <a:ext cx="11887200" cy="815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47640" y="131760"/>
            <a:ext cx="11709360" cy="12621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65280" y="1393920"/>
            <a:ext cx="11887200" cy="81532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47640" y="131760"/>
            <a:ext cx="11709360" cy="12621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65280" y="1393920"/>
            <a:ext cx="5800680" cy="81532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756480" y="1393920"/>
            <a:ext cx="5800680" cy="81532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47640" y="131760"/>
            <a:ext cx="11709360" cy="12621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65280" y="1393920"/>
            <a:ext cx="5800680" cy="81532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6756480" y="1393920"/>
            <a:ext cx="5800680" cy="81532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47640" y="131760"/>
            <a:ext cx="11709360" cy="12621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647640" y="131760"/>
            <a:ext cx="11709360" cy="58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47640" y="131760"/>
            <a:ext cx="11709360" cy="12621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65280" y="1393920"/>
            <a:ext cx="5800680" cy="3889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6756480" y="1393920"/>
            <a:ext cx="5800680" cy="81532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65280" y="5652720"/>
            <a:ext cx="5800680" cy="3889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47640" y="131760"/>
            <a:ext cx="11709360" cy="12621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65280" y="1393920"/>
            <a:ext cx="5800680" cy="81532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756480" y="1393920"/>
            <a:ext cx="5800680" cy="3889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756480" y="5652720"/>
            <a:ext cx="5800680" cy="3889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47640" y="131760"/>
            <a:ext cx="11709360" cy="12621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65280" y="1393920"/>
            <a:ext cx="5800680" cy="3889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756480" y="1393920"/>
            <a:ext cx="5800680" cy="3889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65280" y="5652720"/>
            <a:ext cx="11887200" cy="3889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47640" y="131760"/>
            <a:ext cx="11709360" cy="12621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65280" y="1393920"/>
            <a:ext cx="11887200" cy="3889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665280" y="5652720"/>
            <a:ext cx="11887200" cy="3889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47640" y="131760"/>
            <a:ext cx="11709360" cy="12621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65280" y="1393920"/>
            <a:ext cx="5800680" cy="3889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6756480" y="1393920"/>
            <a:ext cx="5800680" cy="3889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65280" y="5652720"/>
            <a:ext cx="5800680" cy="3889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6756480" y="5652720"/>
            <a:ext cx="5800680" cy="3889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47640" y="131760"/>
            <a:ext cx="11709360" cy="12621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65280" y="1393920"/>
            <a:ext cx="3827520" cy="3889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84680" y="1393920"/>
            <a:ext cx="3827520" cy="3889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03720" y="1393920"/>
            <a:ext cx="3827520" cy="3889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665280" y="5652720"/>
            <a:ext cx="3827520" cy="3889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4684680" y="5652720"/>
            <a:ext cx="3827520" cy="3889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8703720" y="5652720"/>
            <a:ext cx="3827520" cy="3889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47640" y="131760"/>
            <a:ext cx="11709360" cy="12621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47640" y="131760"/>
            <a:ext cx="11709360" cy="12621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665280" y="1393920"/>
            <a:ext cx="11887200" cy="815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47640" y="131760"/>
            <a:ext cx="11709360" cy="12621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65280" y="1393920"/>
            <a:ext cx="11887200" cy="81532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47640" y="131760"/>
            <a:ext cx="11709360" cy="12621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65280" y="1393920"/>
            <a:ext cx="5800680" cy="81532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756480" y="1393920"/>
            <a:ext cx="5800680" cy="81532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47640" y="131760"/>
            <a:ext cx="11709360" cy="12621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647640" y="131760"/>
            <a:ext cx="11709360" cy="58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47640" y="131760"/>
            <a:ext cx="11709360" cy="12621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65280" y="1393920"/>
            <a:ext cx="5800680" cy="3889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6756480" y="1393920"/>
            <a:ext cx="5800680" cy="81532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65280" y="5652720"/>
            <a:ext cx="5800680" cy="3889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47640" y="131760"/>
            <a:ext cx="11709360" cy="12621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65280" y="1393920"/>
            <a:ext cx="5800680" cy="81532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6756480" y="1393920"/>
            <a:ext cx="5800680" cy="3889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756480" y="5652720"/>
            <a:ext cx="5800680" cy="3889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47640" y="131760"/>
            <a:ext cx="11709360" cy="12621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65280" y="1393920"/>
            <a:ext cx="5800680" cy="3889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6756480" y="1393920"/>
            <a:ext cx="5800680" cy="3889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65280" y="5652720"/>
            <a:ext cx="11887200" cy="3889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47640" y="131760"/>
            <a:ext cx="11709360" cy="12621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65280" y="1393920"/>
            <a:ext cx="11887200" cy="3889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665280" y="5652720"/>
            <a:ext cx="11887200" cy="3889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47640" y="131760"/>
            <a:ext cx="11709360" cy="12621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65280" y="1393920"/>
            <a:ext cx="5800680" cy="3889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6756480" y="1393920"/>
            <a:ext cx="5800680" cy="3889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65280" y="5652720"/>
            <a:ext cx="5800680" cy="3889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756480" y="5652720"/>
            <a:ext cx="5800680" cy="3889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47640" y="131760"/>
            <a:ext cx="11709360" cy="58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47640" y="131760"/>
            <a:ext cx="11709360" cy="12621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65280" y="1393920"/>
            <a:ext cx="3827520" cy="3889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84680" y="1393920"/>
            <a:ext cx="3827520" cy="3889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8703720" y="1393920"/>
            <a:ext cx="3827520" cy="3889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665280" y="5652720"/>
            <a:ext cx="3827520" cy="3889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4684680" y="5652720"/>
            <a:ext cx="3827520" cy="3889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8703720" y="5652720"/>
            <a:ext cx="3827520" cy="3889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47640" y="131760"/>
            <a:ext cx="11709360" cy="12621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665280" y="1393920"/>
            <a:ext cx="11887200" cy="815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47640" y="131760"/>
            <a:ext cx="11709360" cy="12621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65280" y="1393920"/>
            <a:ext cx="11887200" cy="81532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47640" y="131760"/>
            <a:ext cx="11709360" cy="12621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65280" y="1393920"/>
            <a:ext cx="5800680" cy="81532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6756480" y="1393920"/>
            <a:ext cx="5800680" cy="81532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47640" y="131760"/>
            <a:ext cx="11709360" cy="12621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647640" y="131760"/>
            <a:ext cx="11709360" cy="58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47640" y="131760"/>
            <a:ext cx="11709360" cy="12621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65280" y="1393920"/>
            <a:ext cx="5800680" cy="3889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6756480" y="1393920"/>
            <a:ext cx="5800680" cy="81532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65280" y="5652720"/>
            <a:ext cx="5800680" cy="3889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47640" y="131760"/>
            <a:ext cx="11709360" cy="12621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65280" y="1393920"/>
            <a:ext cx="5800680" cy="81532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6756480" y="1393920"/>
            <a:ext cx="5800680" cy="3889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756480" y="5652720"/>
            <a:ext cx="5800680" cy="3889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47640" y="131760"/>
            <a:ext cx="11709360" cy="12621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65280" y="1393920"/>
            <a:ext cx="5800680" cy="3889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6756480" y="1393920"/>
            <a:ext cx="5800680" cy="3889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65280" y="5652720"/>
            <a:ext cx="11887200" cy="3889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47640" y="131760"/>
            <a:ext cx="11709360" cy="12621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65280" y="1393920"/>
            <a:ext cx="5800680" cy="3889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756480" y="1393920"/>
            <a:ext cx="5800680" cy="81532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65280" y="5652720"/>
            <a:ext cx="5800680" cy="3889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47640" y="131760"/>
            <a:ext cx="11709360" cy="12621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65280" y="1393920"/>
            <a:ext cx="11887200" cy="3889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65280" y="5652720"/>
            <a:ext cx="11887200" cy="3889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47640" y="131760"/>
            <a:ext cx="11709360" cy="12621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65280" y="1393920"/>
            <a:ext cx="5800680" cy="3889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6756480" y="1393920"/>
            <a:ext cx="5800680" cy="3889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65280" y="5652720"/>
            <a:ext cx="5800680" cy="3889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6756480" y="5652720"/>
            <a:ext cx="5800680" cy="3889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47640" y="131760"/>
            <a:ext cx="11709360" cy="12621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65280" y="1393920"/>
            <a:ext cx="3827520" cy="3889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84680" y="1393920"/>
            <a:ext cx="3827520" cy="3889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8703720" y="1393920"/>
            <a:ext cx="3827520" cy="3889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665280" y="5652720"/>
            <a:ext cx="3827520" cy="3889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4684680" y="5652720"/>
            <a:ext cx="3827520" cy="3889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8703720" y="5652720"/>
            <a:ext cx="3827520" cy="3889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47640" y="131760"/>
            <a:ext cx="11709360" cy="12621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665280" y="1393920"/>
            <a:ext cx="11887200" cy="815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47640" y="131760"/>
            <a:ext cx="11709360" cy="12621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65280" y="1393920"/>
            <a:ext cx="11887200" cy="81532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47640" y="131760"/>
            <a:ext cx="11709360" cy="12621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65280" y="1393920"/>
            <a:ext cx="5800680" cy="81532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6756480" y="1393920"/>
            <a:ext cx="5800680" cy="81532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47640" y="131760"/>
            <a:ext cx="11709360" cy="12621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647640" y="131760"/>
            <a:ext cx="11709360" cy="58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47640" y="131760"/>
            <a:ext cx="11709360" cy="12621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65280" y="1393920"/>
            <a:ext cx="5800680" cy="3889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6756480" y="1393920"/>
            <a:ext cx="5800680" cy="81532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65280" y="5652720"/>
            <a:ext cx="5800680" cy="3889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47640" y="131760"/>
            <a:ext cx="11709360" cy="12621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65280" y="1393920"/>
            <a:ext cx="5800680" cy="81532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756480" y="1393920"/>
            <a:ext cx="5800680" cy="3889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756480" y="5652720"/>
            <a:ext cx="5800680" cy="3889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47640" y="131760"/>
            <a:ext cx="11709360" cy="12621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65280" y="1393920"/>
            <a:ext cx="5800680" cy="81532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6756480" y="1393920"/>
            <a:ext cx="5800680" cy="3889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756480" y="5652720"/>
            <a:ext cx="5800680" cy="3889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47640" y="131760"/>
            <a:ext cx="11709360" cy="12621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65280" y="1393920"/>
            <a:ext cx="5800680" cy="3889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6756480" y="1393920"/>
            <a:ext cx="5800680" cy="3889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65280" y="5652720"/>
            <a:ext cx="11887200" cy="3889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47640" y="131760"/>
            <a:ext cx="11709360" cy="12621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65280" y="1393920"/>
            <a:ext cx="11887200" cy="3889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665280" y="5652720"/>
            <a:ext cx="11887200" cy="3889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47640" y="131760"/>
            <a:ext cx="11709360" cy="12621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65280" y="1393920"/>
            <a:ext cx="5800680" cy="3889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6756480" y="1393920"/>
            <a:ext cx="5800680" cy="3889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65280" y="5652720"/>
            <a:ext cx="5800680" cy="3889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6756480" y="5652720"/>
            <a:ext cx="5800680" cy="3889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47640" y="131760"/>
            <a:ext cx="11709360" cy="12621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65280" y="1393920"/>
            <a:ext cx="3827520" cy="3889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84680" y="1393920"/>
            <a:ext cx="3827520" cy="3889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8703720" y="1393920"/>
            <a:ext cx="3827520" cy="3889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665280" y="5652720"/>
            <a:ext cx="3827520" cy="3889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4684680" y="5652720"/>
            <a:ext cx="3827520" cy="3889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8703720" y="5652720"/>
            <a:ext cx="3827520" cy="3889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47640" y="131760"/>
            <a:ext cx="11709360" cy="12621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665280" y="1393920"/>
            <a:ext cx="11887200" cy="815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47640" y="131760"/>
            <a:ext cx="11709360" cy="12621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65280" y="1393920"/>
            <a:ext cx="11887200" cy="81532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47640" y="131760"/>
            <a:ext cx="11709360" cy="12621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65280" y="1393920"/>
            <a:ext cx="5800680" cy="81532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6756480" y="1393920"/>
            <a:ext cx="5800680" cy="81532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47640" y="131760"/>
            <a:ext cx="11709360" cy="12621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47640" y="131760"/>
            <a:ext cx="11709360" cy="12621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65280" y="1393920"/>
            <a:ext cx="5800680" cy="3889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756480" y="1393920"/>
            <a:ext cx="5800680" cy="3889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65280" y="5652720"/>
            <a:ext cx="11887200" cy="3889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647640" y="131760"/>
            <a:ext cx="11709360" cy="58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47640" y="131760"/>
            <a:ext cx="11709360" cy="12621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65280" y="1393920"/>
            <a:ext cx="5800680" cy="3889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6756480" y="1393920"/>
            <a:ext cx="5800680" cy="81532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65280" y="5652720"/>
            <a:ext cx="5800680" cy="3889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47640" y="131760"/>
            <a:ext cx="11709360" cy="12621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65280" y="1393920"/>
            <a:ext cx="5800680" cy="81532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6756480" y="1393920"/>
            <a:ext cx="5800680" cy="3889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756480" y="5652720"/>
            <a:ext cx="5800680" cy="3889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47640" y="131760"/>
            <a:ext cx="11709360" cy="12621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65280" y="1393920"/>
            <a:ext cx="5800680" cy="3889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6756480" y="1393920"/>
            <a:ext cx="5800680" cy="3889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65280" y="5652720"/>
            <a:ext cx="11887200" cy="3889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47640" y="131760"/>
            <a:ext cx="11709360" cy="12621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65280" y="1393920"/>
            <a:ext cx="11887200" cy="3889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665280" y="5652720"/>
            <a:ext cx="11887200" cy="3889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47640" y="131760"/>
            <a:ext cx="11709360" cy="12621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65280" y="1393920"/>
            <a:ext cx="5800680" cy="3889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6756480" y="1393920"/>
            <a:ext cx="5800680" cy="3889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65280" y="5652720"/>
            <a:ext cx="5800680" cy="3889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6756480" y="5652720"/>
            <a:ext cx="5800680" cy="3889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47640" y="131760"/>
            <a:ext cx="11709360" cy="12621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65280" y="1393920"/>
            <a:ext cx="3827520" cy="3889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84680" y="1393920"/>
            <a:ext cx="3827520" cy="3889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8703720" y="1393920"/>
            <a:ext cx="3827520" cy="3889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665280" y="5652720"/>
            <a:ext cx="3827520" cy="3889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4684680" y="5652720"/>
            <a:ext cx="3827520" cy="3889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8703720" y="5652720"/>
            <a:ext cx="3827520" cy="3889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47640" y="131760"/>
            <a:ext cx="11709360" cy="12621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665280" y="1393920"/>
            <a:ext cx="11887200" cy="815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47640" y="131760"/>
            <a:ext cx="11709360" cy="12621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65280" y="1393920"/>
            <a:ext cx="11887200" cy="81532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47640" y="131760"/>
            <a:ext cx="11709360" cy="12621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65280" y="1393920"/>
            <a:ext cx="11887200" cy="81532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marL="382680" indent="-343080">
              <a:spcBef>
                <a:spcPts val="1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  <a:p>
            <a:pPr lvl="1" marL="731880" indent="-285840">
              <a:spcBef>
                <a:spcPts val="1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  <a:p>
            <a:pPr lvl="2" marL="1131840" indent="-228600">
              <a:spcBef>
                <a:spcPts val="1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  <a:p>
            <a:pPr lvl="3" marL="1589040" indent="-228600">
              <a:spcBef>
                <a:spcPts val="1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  <a:p>
            <a:pPr lvl="4" marL="2046240" indent="-228600">
              <a:spcBef>
                <a:spcPts val="1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  <a:p>
            <a:pPr lvl="5" marL="2046240" indent="-228600">
              <a:spcBef>
                <a:spcPts val="1001"/>
              </a:spcBef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  <a:p>
            <a:pPr lvl="6" marL="2046240" indent="-228600">
              <a:spcBef>
                <a:spcPts val="1001"/>
              </a:spcBef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47640" y="131760"/>
            <a:ext cx="11709360" cy="12621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65280" y="1393920"/>
            <a:ext cx="11887200" cy="81532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marL="382680" indent="-343080">
              <a:spcBef>
                <a:spcPts val="1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  <a:p>
            <a:pPr lvl="1" marL="731880" indent="-285840">
              <a:spcBef>
                <a:spcPts val="1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  <a:p>
            <a:pPr lvl="2" marL="1131840" indent="-228600">
              <a:spcBef>
                <a:spcPts val="1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  <a:p>
            <a:pPr lvl="3" marL="1589040" indent="-228600">
              <a:spcBef>
                <a:spcPts val="1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  <a:p>
            <a:pPr lvl="4" marL="2046240" indent="-228600">
              <a:spcBef>
                <a:spcPts val="1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  <a:p>
            <a:pPr lvl="5" marL="2046240" indent="-228600">
              <a:spcBef>
                <a:spcPts val="1001"/>
              </a:spcBef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  <a:p>
            <a:pPr lvl="6" marL="2046240" indent="-228600">
              <a:spcBef>
                <a:spcPts val="1001"/>
              </a:spcBef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609480" y="1322280"/>
            <a:ext cx="11836440" cy="114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47640" y="131760"/>
            <a:ext cx="11709360" cy="12621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65280" y="1393920"/>
            <a:ext cx="11887200" cy="81532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marL="382680" indent="-343080">
              <a:spcBef>
                <a:spcPts val="1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  <a:p>
            <a:pPr lvl="1" marL="731880" indent="-285840">
              <a:spcBef>
                <a:spcPts val="1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  <a:p>
            <a:pPr lvl="2" marL="1131840" indent="-228600">
              <a:spcBef>
                <a:spcPts val="1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  <a:p>
            <a:pPr lvl="3" marL="1589040" indent="-228600">
              <a:spcBef>
                <a:spcPts val="1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  <a:p>
            <a:pPr lvl="4" marL="2046240" indent="-228600">
              <a:spcBef>
                <a:spcPts val="1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  <a:p>
            <a:pPr lvl="5" marL="2046240" indent="-228600">
              <a:spcBef>
                <a:spcPts val="1001"/>
              </a:spcBef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  <a:p>
            <a:pPr lvl="6" marL="2046240" indent="-228600">
              <a:spcBef>
                <a:spcPts val="1001"/>
              </a:spcBef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7" name="" descr=""/>
          <p:cNvPicPr/>
          <p:nvPr/>
        </p:nvPicPr>
        <p:blipFill>
          <a:blip r:embed="rId2"/>
          <a:stretch/>
        </p:blipFill>
        <p:spPr>
          <a:xfrm>
            <a:off x="609480" y="1322280"/>
            <a:ext cx="11836440" cy="114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47640" y="131760"/>
            <a:ext cx="11709360" cy="12621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65280" y="1393920"/>
            <a:ext cx="11887200" cy="81532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marL="382680" indent="-343080">
              <a:spcBef>
                <a:spcPts val="1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  <a:p>
            <a:pPr lvl="1" marL="731880" indent="-285840">
              <a:spcBef>
                <a:spcPts val="1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  <a:p>
            <a:pPr lvl="2" marL="1131840" indent="-228600">
              <a:spcBef>
                <a:spcPts val="1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  <a:p>
            <a:pPr lvl="3" marL="1589040" indent="-228600">
              <a:spcBef>
                <a:spcPts val="1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  <a:p>
            <a:pPr lvl="4" marL="2046240" indent="-228600">
              <a:spcBef>
                <a:spcPts val="1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  <a:p>
            <a:pPr lvl="5" marL="2046240" indent="-228600">
              <a:spcBef>
                <a:spcPts val="1001"/>
              </a:spcBef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  <a:p>
            <a:pPr lvl="6" marL="2046240" indent="-228600">
              <a:spcBef>
                <a:spcPts val="1001"/>
              </a:spcBef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46" name="" descr=""/>
          <p:cNvPicPr/>
          <p:nvPr/>
        </p:nvPicPr>
        <p:blipFill>
          <a:blip r:embed="rId2"/>
          <a:stretch/>
        </p:blipFill>
        <p:spPr>
          <a:xfrm>
            <a:off x="609480" y="1322280"/>
            <a:ext cx="11836440" cy="114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47640" y="131760"/>
            <a:ext cx="11709360" cy="12621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65280" y="1393920"/>
            <a:ext cx="11887200" cy="81532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marL="382680" indent="-343080">
              <a:spcBef>
                <a:spcPts val="1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  <a:p>
            <a:pPr lvl="1" marL="731880" indent="-285840">
              <a:spcBef>
                <a:spcPts val="1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  <a:p>
            <a:pPr lvl="2" marL="1131840" indent="-228600">
              <a:spcBef>
                <a:spcPts val="1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  <a:p>
            <a:pPr lvl="3" marL="1589040" indent="-228600">
              <a:spcBef>
                <a:spcPts val="1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  <a:p>
            <a:pPr lvl="4" marL="2046240" indent="-228600">
              <a:spcBef>
                <a:spcPts val="1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  <a:p>
            <a:pPr lvl="5" marL="2046240" indent="-228600">
              <a:spcBef>
                <a:spcPts val="1001"/>
              </a:spcBef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  <a:p>
            <a:pPr lvl="6" marL="2046240" indent="-228600">
              <a:spcBef>
                <a:spcPts val="1001"/>
              </a:spcBef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5" name="" descr=""/>
          <p:cNvPicPr/>
          <p:nvPr/>
        </p:nvPicPr>
        <p:blipFill>
          <a:blip r:embed="rId2"/>
          <a:stretch/>
        </p:blipFill>
        <p:spPr>
          <a:xfrm>
            <a:off x="609480" y="1322280"/>
            <a:ext cx="11836440" cy="114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"/>
          <p:cNvSpPr/>
          <p:nvPr/>
        </p:nvSpPr>
        <p:spPr>
          <a:xfrm>
            <a:off x="0" y="0"/>
            <a:ext cx="13004640" cy="1193760"/>
          </a:xfrm>
          <a:prstGeom prst="rect">
            <a:avLst/>
          </a:prstGeom>
          <a:gradFill rotWithShape="0">
            <a:gsLst>
              <a:gs pos="0">
                <a:srgbClr val="33b319"/>
              </a:gs>
              <a:gs pos="100000">
                <a:srgbClr val="ecd8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47640" y="131760"/>
            <a:ext cx="11709360" cy="12621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665280" y="1393560"/>
            <a:ext cx="11709360" cy="80643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marL="382680" indent="-343080">
              <a:spcBef>
                <a:spcPts val="1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  <a:p>
            <a:pPr lvl="1" marL="731880" indent="-285840">
              <a:spcBef>
                <a:spcPts val="1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  <a:p>
            <a:pPr lvl="2" marL="1131840" indent="-228600">
              <a:spcBef>
                <a:spcPts val="1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  <a:p>
            <a:pPr lvl="3" marL="1589040" indent="-228600">
              <a:spcBef>
                <a:spcPts val="1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  <a:p>
            <a:pPr lvl="4" marL="2046240" indent="-228600">
              <a:spcBef>
                <a:spcPts val="1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  <a:p>
            <a:pPr lvl="5" marL="2046240" indent="-228600">
              <a:spcBef>
                <a:spcPts val="1001"/>
              </a:spcBef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  <a:p>
            <a:pPr lvl="6" marL="2046240" indent="-228600">
              <a:spcBef>
                <a:spcPts val="1001"/>
              </a:spcBef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 rot="5400000">
            <a:off x="11787840" y="9544680"/>
            <a:ext cx="50760" cy="46080"/>
          </a:xfrm>
          <a:prstGeom prst="pi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9" name=""/>
          <p:cNvSpPr/>
          <p:nvPr/>
        </p:nvSpPr>
        <p:spPr>
          <a:xfrm>
            <a:off x="0" y="0"/>
            <a:ext cx="13004640" cy="1193760"/>
          </a:xfrm>
          <a:prstGeom prst="rect">
            <a:avLst/>
          </a:prstGeom>
          <a:gradFill rotWithShape="0">
            <a:gsLst>
              <a:gs pos="0">
                <a:srgbClr val="33b319"/>
              </a:gs>
              <a:gs pos="100000">
                <a:srgbClr val="ecd8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40" name=""/>
          <p:cNvGrpSpPr/>
          <p:nvPr/>
        </p:nvGrpSpPr>
        <p:grpSpPr>
          <a:xfrm>
            <a:off x="10034640" y="9256680"/>
            <a:ext cx="2934360" cy="431640"/>
            <a:chOff x="10034640" y="9256680"/>
            <a:chExt cx="2934360" cy="431640"/>
          </a:xfrm>
        </p:grpSpPr>
        <p:grpSp>
          <p:nvGrpSpPr>
            <p:cNvPr id="41" name=""/>
            <p:cNvGrpSpPr/>
            <p:nvPr/>
          </p:nvGrpSpPr>
          <p:grpSpPr>
            <a:xfrm>
              <a:off x="11479680" y="9256680"/>
              <a:ext cx="1489320" cy="431640"/>
              <a:chOff x="11479680" y="9256680"/>
              <a:chExt cx="1489320" cy="431640"/>
            </a:xfrm>
          </p:grpSpPr>
          <p:sp>
            <p:nvSpPr>
              <p:cNvPr id="42" name=""/>
              <p:cNvSpPr/>
              <p:nvPr/>
            </p:nvSpPr>
            <p:spPr>
              <a:xfrm>
                <a:off x="11479680" y="9256680"/>
                <a:ext cx="1489320" cy="431640"/>
              </a:xfrm>
              <a:prstGeom prst="rect">
                <a:avLst/>
              </a:prstGeom>
              <a:solidFill>
                <a:srgbClr val="fff0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pic>
            <p:nvPicPr>
              <p:cNvPr id="43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1479680" y="9256680"/>
                <a:ext cx="1489320" cy="4316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44" name="" descr=""/>
            <p:cNvPicPr/>
            <p:nvPr/>
          </p:nvPicPr>
          <p:blipFill>
            <a:blip r:embed="rId3"/>
            <a:stretch/>
          </p:blipFill>
          <p:spPr>
            <a:xfrm>
              <a:off x="10034640" y="9291600"/>
              <a:ext cx="1451160" cy="36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"/>
            <p:cNvSpPr/>
            <p:nvPr/>
          </p:nvSpPr>
          <p:spPr>
            <a:xfrm rot="5400000">
              <a:off x="11483280" y="9430560"/>
              <a:ext cx="65160" cy="57240"/>
            </a:xfrm>
            <a:prstGeom prst="pie">
              <a:avLst/>
            </a:prstGeom>
            <a:solidFill>
              <a:srgbClr val="b2b2b2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47640" y="131760"/>
            <a:ext cx="11709360" cy="12621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65280" y="1393560"/>
            <a:ext cx="11709360" cy="83595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marL="382680" indent="-343080">
              <a:spcBef>
                <a:spcPts val="1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  <a:p>
            <a:pPr lvl="1" marL="731880" indent="-285840">
              <a:spcBef>
                <a:spcPts val="1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  <a:p>
            <a:pPr lvl="2" marL="1131840" indent="-228600">
              <a:spcBef>
                <a:spcPts val="1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  <a:p>
            <a:pPr lvl="3" marL="1589040" indent="-228600">
              <a:spcBef>
                <a:spcPts val="1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  <a:p>
            <a:pPr lvl="4" marL="2046240" indent="-228600">
              <a:spcBef>
                <a:spcPts val="1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  <a:p>
            <a:pPr lvl="5" marL="2046240" indent="-228600">
              <a:spcBef>
                <a:spcPts val="1001"/>
              </a:spcBef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  <a:p>
            <a:pPr lvl="6" marL="2046240" indent="-228600">
              <a:spcBef>
                <a:spcPts val="1001"/>
              </a:spcBef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"/>
          <p:cNvSpPr/>
          <p:nvPr/>
        </p:nvSpPr>
        <p:spPr>
          <a:xfrm>
            <a:off x="10701360" y="8970840"/>
            <a:ext cx="230328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 rot="5400000">
            <a:off x="11787840" y="9544680"/>
            <a:ext cx="50760" cy="46080"/>
          </a:xfrm>
          <a:prstGeom prst="pi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0"/>
            <a:ext cx="13004640" cy="1193760"/>
          </a:xfrm>
          <a:prstGeom prst="rect">
            <a:avLst/>
          </a:prstGeom>
          <a:gradFill rotWithShape="0">
            <a:gsLst>
              <a:gs pos="0">
                <a:srgbClr val="33b319"/>
              </a:gs>
              <a:gs pos="100000">
                <a:srgbClr val="ecd8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10034640" y="9256680"/>
            <a:ext cx="2934360" cy="431640"/>
            <a:chOff x="10034640" y="9256680"/>
            <a:chExt cx="2934360" cy="431640"/>
          </a:xfrm>
        </p:grpSpPr>
        <p:grpSp>
          <p:nvGrpSpPr>
            <p:cNvPr id="88" name=""/>
            <p:cNvGrpSpPr/>
            <p:nvPr/>
          </p:nvGrpSpPr>
          <p:grpSpPr>
            <a:xfrm>
              <a:off x="11479680" y="9256680"/>
              <a:ext cx="1489320" cy="431640"/>
              <a:chOff x="11479680" y="9256680"/>
              <a:chExt cx="1489320" cy="431640"/>
            </a:xfrm>
          </p:grpSpPr>
          <p:sp>
            <p:nvSpPr>
              <p:cNvPr id="89" name=""/>
              <p:cNvSpPr/>
              <p:nvPr/>
            </p:nvSpPr>
            <p:spPr>
              <a:xfrm>
                <a:off x="11479680" y="9256680"/>
                <a:ext cx="1489320" cy="431640"/>
              </a:xfrm>
              <a:prstGeom prst="rect">
                <a:avLst/>
              </a:prstGeom>
              <a:solidFill>
                <a:srgbClr val="fff0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pic>
            <p:nvPicPr>
              <p:cNvPr id="90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1479680" y="9256680"/>
                <a:ext cx="1489320" cy="4316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91" name="" descr=""/>
            <p:cNvPicPr/>
            <p:nvPr/>
          </p:nvPicPr>
          <p:blipFill>
            <a:blip r:embed="rId3"/>
            <a:stretch/>
          </p:blipFill>
          <p:spPr>
            <a:xfrm>
              <a:off x="10034640" y="9291600"/>
              <a:ext cx="1451160" cy="36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 rot="5400000">
              <a:off x="11483280" y="9430560"/>
              <a:ext cx="65160" cy="57240"/>
            </a:xfrm>
            <a:prstGeom prst="pie">
              <a:avLst/>
            </a:prstGeom>
            <a:solidFill>
              <a:srgbClr val="b2b2b2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47640" y="131760"/>
            <a:ext cx="11709360" cy="12621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65280" y="1393560"/>
            <a:ext cx="11709360" cy="83595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marL="382680" indent="-343080">
              <a:spcBef>
                <a:spcPts val="1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  <a:p>
            <a:pPr lvl="1" marL="731880" indent="-285840">
              <a:spcBef>
                <a:spcPts val="1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  <a:p>
            <a:pPr lvl="2" marL="1131840" indent="-228600">
              <a:spcBef>
                <a:spcPts val="1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  <a:p>
            <a:pPr lvl="3" marL="1589040" indent="-228600">
              <a:spcBef>
                <a:spcPts val="1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  <a:p>
            <a:pPr lvl="4" marL="2046240" indent="-228600">
              <a:spcBef>
                <a:spcPts val="1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  <a:p>
            <a:pPr lvl="5" marL="2046240" indent="-228600">
              <a:spcBef>
                <a:spcPts val="1001"/>
              </a:spcBef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  <a:p>
            <a:pPr lvl="6" marL="2046240" indent="-228600">
              <a:spcBef>
                <a:spcPts val="1001"/>
              </a:spcBef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10701360" y="8970840"/>
            <a:ext cx="230328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47640" y="131760"/>
            <a:ext cx="11709360" cy="12621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65280" y="1393920"/>
            <a:ext cx="11887200" cy="81532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marL="382680" indent="-343080">
              <a:spcBef>
                <a:spcPts val="1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  <a:p>
            <a:pPr lvl="1" marL="731880" indent="-285840">
              <a:spcBef>
                <a:spcPts val="1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  <a:p>
            <a:pPr lvl="2" marL="1131840" indent="-228600">
              <a:spcBef>
                <a:spcPts val="1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  <a:p>
            <a:pPr lvl="3" marL="1589040" indent="-228600">
              <a:spcBef>
                <a:spcPts val="1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  <a:p>
            <a:pPr lvl="4" marL="2046240" indent="-228600">
              <a:spcBef>
                <a:spcPts val="1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  <a:p>
            <a:pPr lvl="5" marL="2046240" indent="-228600">
              <a:spcBef>
                <a:spcPts val="1001"/>
              </a:spcBef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  <a:p>
            <a:pPr lvl="6" marL="2046240" indent="-228600">
              <a:spcBef>
                <a:spcPts val="1001"/>
              </a:spcBef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609480" y="1322280"/>
            <a:ext cx="11836440" cy="114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47640" y="131760"/>
            <a:ext cx="11709360" cy="12621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65280" y="1393920"/>
            <a:ext cx="11887200" cy="81532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marL="382680" indent="-343080">
              <a:spcBef>
                <a:spcPts val="1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  <a:p>
            <a:pPr lvl="1" marL="731880" indent="-285840">
              <a:spcBef>
                <a:spcPts val="1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  <a:p>
            <a:pPr lvl="2" marL="1131840" indent="-228600">
              <a:spcBef>
                <a:spcPts val="1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  <a:p>
            <a:pPr lvl="3" marL="1589040" indent="-228600">
              <a:spcBef>
                <a:spcPts val="1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  <a:p>
            <a:pPr lvl="4" marL="2046240" indent="-228600">
              <a:spcBef>
                <a:spcPts val="1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  <a:p>
            <a:pPr lvl="5" marL="2046240" indent="-228600">
              <a:spcBef>
                <a:spcPts val="1001"/>
              </a:spcBef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  <a:p>
            <a:pPr lvl="6" marL="2046240" indent="-228600">
              <a:spcBef>
                <a:spcPts val="1001"/>
              </a:spcBef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609480" y="1322280"/>
            <a:ext cx="11836440" cy="114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47640" y="131760"/>
            <a:ext cx="11709360" cy="12621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65280" y="1393920"/>
            <a:ext cx="11887200" cy="81532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marL="382680" indent="-343080">
              <a:spcBef>
                <a:spcPts val="1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  <a:p>
            <a:pPr lvl="1" marL="731880" indent="-285840">
              <a:spcBef>
                <a:spcPts val="1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  <a:p>
            <a:pPr lvl="2" marL="1131840" indent="-228600">
              <a:spcBef>
                <a:spcPts val="1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  <a:p>
            <a:pPr lvl="3" marL="1589040" indent="-228600">
              <a:spcBef>
                <a:spcPts val="1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  <a:p>
            <a:pPr lvl="4" marL="2046240" indent="-228600">
              <a:spcBef>
                <a:spcPts val="1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  <a:p>
            <a:pPr lvl="5" marL="2046240" indent="-228600">
              <a:spcBef>
                <a:spcPts val="1001"/>
              </a:spcBef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  <a:p>
            <a:pPr lvl="6" marL="2046240" indent="-228600">
              <a:spcBef>
                <a:spcPts val="1001"/>
              </a:spcBef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609480" y="1322280"/>
            <a:ext cx="11836440" cy="114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47640" y="131760"/>
            <a:ext cx="11709360" cy="12621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65280" y="1393920"/>
            <a:ext cx="11887200" cy="81532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marL="382680" indent="-343080">
              <a:spcBef>
                <a:spcPts val="1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  <a:p>
            <a:pPr lvl="1" marL="731880" indent="-285840">
              <a:spcBef>
                <a:spcPts val="1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  <a:p>
            <a:pPr lvl="2" marL="1131840" indent="-228600">
              <a:spcBef>
                <a:spcPts val="1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  <a:p>
            <a:pPr lvl="3" marL="1589040" indent="-228600">
              <a:spcBef>
                <a:spcPts val="1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  <a:p>
            <a:pPr lvl="4" marL="2046240" indent="-228600">
              <a:spcBef>
                <a:spcPts val="1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  <a:p>
            <a:pPr lvl="5" marL="2046240" indent="-228600">
              <a:spcBef>
                <a:spcPts val="1001"/>
              </a:spcBef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  <a:p>
            <a:pPr lvl="6" marL="2046240" indent="-228600">
              <a:spcBef>
                <a:spcPts val="1001"/>
              </a:spcBef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609480" y="1322280"/>
            <a:ext cx="11836440" cy="114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47640" y="131760"/>
            <a:ext cx="11709360" cy="12621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65280" y="1393920"/>
            <a:ext cx="11887200" cy="81532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marL="382680" indent="-343080">
              <a:spcBef>
                <a:spcPts val="1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  <a:p>
            <a:pPr lvl="1" marL="731880" indent="-285840">
              <a:spcBef>
                <a:spcPts val="1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  <a:p>
            <a:pPr lvl="2" marL="1131840" indent="-228600">
              <a:spcBef>
                <a:spcPts val="1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  <a:p>
            <a:pPr lvl="3" marL="1589040" indent="-228600">
              <a:spcBef>
                <a:spcPts val="1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  <a:p>
            <a:pPr lvl="4" marL="2046240" indent="-228600">
              <a:spcBef>
                <a:spcPts val="1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  <a:p>
            <a:pPr lvl="5" marL="2046240" indent="-228600">
              <a:spcBef>
                <a:spcPts val="1001"/>
              </a:spcBef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  <a:p>
            <a:pPr lvl="6" marL="2046240" indent="-228600">
              <a:spcBef>
                <a:spcPts val="1001"/>
              </a:spcBef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2"/>
          <a:stretch/>
        </p:blipFill>
        <p:spPr>
          <a:xfrm>
            <a:off x="609480" y="1322280"/>
            <a:ext cx="11836440" cy="114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47640" y="131760"/>
            <a:ext cx="11709360" cy="12621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65280" y="1393920"/>
            <a:ext cx="11887200" cy="81532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marL="382680" indent="-343080">
              <a:spcBef>
                <a:spcPts val="1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  <a:p>
            <a:pPr lvl="1" marL="731880" indent="-285840">
              <a:spcBef>
                <a:spcPts val="1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  <a:p>
            <a:pPr lvl="2" marL="1131840" indent="-228600">
              <a:spcBef>
                <a:spcPts val="1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  <a:p>
            <a:pPr lvl="3" marL="1589040" indent="-228600">
              <a:spcBef>
                <a:spcPts val="1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  <a:p>
            <a:pPr lvl="4" marL="2046240" indent="-228600">
              <a:spcBef>
                <a:spcPts val="1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  <a:p>
            <a:pPr lvl="5" marL="2046240" indent="-228600">
              <a:spcBef>
                <a:spcPts val="1001"/>
              </a:spcBef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  <a:p>
            <a:pPr lvl="6" marL="2046240" indent="-228600">
              <a:spcBef>
                <a:spcPts val="1001"/>
              </a:spcBef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2"/>
          <a:stretch/>
        </p:blipFill>
        <p:spPr>
          <a:xfrm>
            <a:off x="609480" y="1322280"/>
            <a:ext cx="11836440" cy="114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smuskal@eidogen-sertanty.com" TargetMode="Externa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ct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ct"/><Relationship Id="rId2" Type="http://schemas.openxmlformats.org/officeDocument/2006/relationships/image" Target="../media/image21.pct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ct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ct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ct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pct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pct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pct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pct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"/>
          <p:cNvSpPr/>
          <p:nvPr/>
        </p:nvSpPr>
        <p:spPr>
          <a:xfrm>
            <a:off x="0" y="0"/>
            <a:ext cx="13004640" cy="1193760"/>
          </a:xfrm>
          <a:prstGeom prst="rect">
            <a:avLst/>
          </a:prstGeom>
          <a:gradFill rotWithShape="0">
            <a:gsLst>
              <a:gs pos="0">
                <a:srgbClr val="33b319"/>
              </a:gs>
              <a:gs pos="100000">
                <a:srgbClr val="ecd8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1472760" y="1452600"/>
            <a:ext cx="9766440" cy="4749840"/>
          </a:xfrm>
          <a:prstGeom prst="rect">
            <a:avLst/>
          </a:prstGeom>
          <a:noFill/>
          <a:ln w="0">
            <a:noFill/>
          </a:ln>
        </p:spPr>
        <p:txBody>
          <a:bodyPr lIns="50760" rIns="166320" tIns="50760" bIns="50760" anchor="ctr">
            <a:noAutofit/>
          </a:bodyPr>
          <a:p>
            <a:pPr marL="57240"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New Strategy to Engage Mobile Computing Users and Developer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2705040" y="6438960"/>
            <a:ext cx="7581960" cy="32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ctr">
            <a:noAutofit/>
          </a:bodyPr>
          <a:p>
            <a:pPr marL="5724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Dr. Steven Muskal</a:t>
            </a:r>
            <a:endParaRPr b="0" lang="en-US" sz="3600" spc="-1" strike="noStrike">
              <a:solidFill>
                <a:srgbClr val="40458c"/>
              </a:solidFill>
              <a:latin typeface="Arial"/>
            </a:endParaRPr>
          </a:p>
          <a:p>
            <a:pPr marL="5724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ief Executive Officer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  <a:p>
            <a:pPr marL="5724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idogen-Sertanty, Inc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  <a:p>
            <a:pPr marL="5724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1"/>
              </a:rPr>
              <a:t>smuskal@eidogen-sertanty.com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564" name=""/>
          <p:cNvGrpSpPr/>
          <p:nvPr/>
        </p:nvGrpSpPr>
        <p:grpSpPr>
          <a:xfrm>
            <a:off x="9907560" y="9244080"/>
            <a:ext cx="2934720" cy="431640"/>
            <a:chOff x="9907560" y="9244080"/>
            <a:chExt cx="2934720" cy="431640"/>
          </a:xfrm>
        </p:grpSpPr>
        <p:grpSp>
          <p:nvGrpSpPr>
            <p:cNvPr id="565" name=""/>
            <p:cNvGrpSpPr/>
            <p:nvPr/>
          </p:nvGrpSpPr>
          <p:grpSpPr>
            <a:xfrm>
              <a:off x="11352960" y="9244080"/>
              <a:ext cx="1489320" cy="431640"/>
              <a:chOff x="11352960" y="9244080"/>
              <a:chExt cx="1489320" cy="431640"/>
            </a:xfrm>
          </p:grpSpPr>
          <p:sp>
            <p:nvSpPr>
              <p:cNvPr id="566" name=""/>
              <p:cNvSpPr/>
              <p:nvPr/>
            </p:nvSpPr>
            <p:spPr>
              <a:xfrm>
                <a:off x="11352960" y="9244080"/>
                <a:ext cx="1489320" cy="431640"/>
              </a:xfrm>
              <a:prstGeom prst="rect">
                <a:avLst/>
              </a:prstGeom>
              <a:solidFill>
                <a:srgbClr val="fff0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pic>
            <p:nvPicPr>
              <p:cNvPr id="567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1352960" y="9244080"/>
                <a:ext cx="1489320" cy="4316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568" name="" descr=""/>
            <p:cNvPicPr/>
            <p:nvPr/>
          </p:nvPicPr>
          <p:blipFill>
            <a:blip r:embed="rId3"/>
            <a:stretch/>
          </p:blipFill>
          <p:spPr>
            <a:xfrm>
              <a:off x="9907560" y="9279000"/>
              <a:ext cx="1451520" cy="36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 rot="5400000">
              <a:off x="11356560" y="9417960"/>
              <a:ext cx="65160" cy="57240"/>
            </a:xfrm>
            <a:prstGeom prst="pie">
              <a:avLst/>
            </a:prstGeom>
            <a:solidFill>
              <a:srgbClr val="b2b2b2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5" name="ACS-8Sep2013.ppt_media/SiteManagementSimulator-1.mov" descr=""/>
          <p:cNvPicPr/>
          <p:nvPr/>
        </p:nvPicPr>
        <p:blipFill>
          <a:blip r:embed="rId1"/>
          <a:stretch/>
        </p:blipFill>
        <p:spPr>
          <a:xfrm>
            <a:off x="1117440" y="1447920"/>
            <a:ext cx="10439640" cy="8016840"/>
          </a:xfrm>
          <a:prstGeom prst="rect">
            <a:avLst/>
          </a:prstGeom>
          <a:ln w="0">
            <a:noFill/>
          </a:ln>
        </p:spPr>
      </p:pic>
      <p:sp>
        <p:nvSpPr>
          <p:cNvPr id="616" name=""/>
          <p:cNvSpPr/>
          <p:nvPr/>
        </p:nvSpPr>
        <p:spPr>
          <a:xfrm>
            <a:off x="0" y="0"/>
            <a:ext cx="13004640" cy="1193760"/>
          </a:xfrm>
          <a:prstGeom prst="rect">
            <a:avLst/>
          </a:prstGeom>
          <a:gradFill rotWithShape="0">
            <a:gsLst>
              <a:gs pos="0">
                <a:srgbClr val="33b319"/>
              </a:gs>
              <a:gs pos="100000">
                <a:srgbClr val="ecd8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304920" y="7920"/>
            <a:ext cx="12318840" cy="12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ctr">
            <a:noAutofit/>
          </a:bodyPr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Mobilize” Sophisticated Pipeline Pilot Protocols  Protocols</a:t>
            </a:r>
            <a:endParaRPr b="0" lang="en-US" sz="44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"/>
          <p:cNvSpPr/>
          <p:nvPr/>
        </p:nvSpPr>
        <p:spPr>
          <a:xfrm>
            <a:off x="0" y="0"/>
            <a:ext cx="13004640" cy="1193760"/>
          </a:xfrm>
          <a:prstGeom prst="rect">
            <a:avLst/>
          </a:prstGeom>
          <a:gradFill rotWithShape="0">
            <a:gsLst>
              <a:gs pos="0">
                <a:srgbClr val="33b319"/>
              </a:gs>
              <a:gs pos="100000">
                <a:srgbClr val="ecd8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266760" y="-19440"/>
            <a:ext cx="11709360" cy="1260360"/>
          </a:xfrm>
          <a:prstGeom prst="rect">
            <a:avLst/>
          </a:prstGeom>
          <a:noFill/>
          <a:ln w="0">
            <a:noFill/>
          </a:ln>
        </p:spPr>
        <p:txBody>
          <a:bodyPr lIns="50760" rIns="166320" tIns="50760" bIns="50760" anchor="ctr">
            <a:noAutofit/>
          </a:bodyPr>
          <a:p>
            <a:pPr marL="572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verage Mobile Device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563040" y="1355760"/>
            <a:ext cx="10338120" cy="851040"/>
          </a:xfrm>
          <a:prstGeom prst="rect">
            <a:avLst/>
          </a:prstGeom>
          <a:noFill/>
          <a:ln w="0">
            <a:noFill/>
          </a:ln>
        </p:spPr>
        <p:txBody>
          <a:bodyPr lIns="50760" rIns="16632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  <a:ea typeface="Arial"/>
              </a:rPr>
              <a:t>Camera, Audio, GPS, other Peripherals, etc.</a:t>
            </a: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21" name="ACS-8Sep2013.ppt_media/ImageUpload-1.mov" descr=""/>
          <p:cNvPicPr/>
          <p:nvPr/>
        </p:nvPicPr>
        <p:blipFill>
          <a:blip r:embed="rId1"/>
          <a:stretch/>
        </p:blipFill>
        <p:spPr>
          <a:xfrm>
            <a:off x="165240" y="2684520"/>
            <a:ext cx="8740800" cy="6578640"/>
          </a:xfrm>
          <a:prstGeom prst="rect">
            <a:avLst/>
          </a:prstGeom>
          <a:ln w="0">
            <a:noFill/>
          </a:ln>
        </p:spPr>
      </p:pic>
      <p:pic>
        <p:nvPicPr>
          <p:cNvPr id="622" name="ACS-8Sep2013.ppt_media/BarcodeUpload-1.mov" descr=""/>
          <p:cNvPicPr/>
          <p:nvPr/>
        </p:nvPicPr>
        <p:blipFill>
          <a:blip r:embed="rId2"/>
          <a:stretch/>
        </p:blipFill>
        <p:spPr>
          <a:xfrm>
            <a:off x="9385200" y="2616120"/>
            <a:ext cx="3200400" cy="669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3" name="ACS-8Sep2013.ppt_media/TIPSearchSimulator-1.mov" descr=""/>
          <p:cNvPicPr/>
          <p:nvPr/>
        </p:nvPicPr>
        <p:blipFill>
          <a:blip r:embed="rId1"/>
          <a:stretch/>
        </p:blipFill>
        <p:spPr>
          <a:xfrm>
            <a:off x="419040" y="1397160"/>
            <a:ext cx="6134040" cy="7981920"/>
          </a:xfrm>
          <a:prstGeom prst="rect">
            <a:avLst/>
          </a:prstGeom>
          <a:ln w="0">
            <a:noFill/>
          </a:ln>
        </p:spPr>
      </p:pic>
      <p:sp>
        <p:nvSpPr>
          <p:cNvPr id="624" name=""/>
          <p:cNvSpPr/>
          <p:nvPr/>
        </p:nvSpPr>
        <p:spPr>
          <a:xfrm>
            <a:off x="0" y="0"/>
            <a:ext cx="13004640" cy="1193760"/>
          </a:xfrm>
          <a:prstGeom prst="rect">
            <a:avLst/>
          </a:prstGeom>
          <a:gradFill rotWithShape="0">
            <a:gsLst>
              <a:gs pos="0">
                <a:srgbClr val="33b319"/>
              </a:gs>
              <a:gs pos="100000">
                <a:srgbClr val="ecd8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4680"/>
            <a:ext cx="11709360" cy="1262160"/>
          </a:xfrm>
          <a:prstGeom prst="rect">
            <a:avLst/>
          </a:prstGeom>
          <a:noFill/>
          <a:ln w="0">
            <a:noFill/>
          </a:ln>
        </p:spPr>
        <p:txBody>
          <a:bodyPr lIns="50760" rIns="166320" tIns="50760" bIns="50760" anchor="ctr">
            <a:noAutofit/>
          </a:bodyPr>
          <a:p>
            <a:pPr marL="572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mbed and Deplo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6769080" y="3365640"/>
            <a:ext cx="5575320" cy="30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t">
            <a:noAutofit/>
          </a:bodyPr>
          <a:p>
            <a:pPr>
              <a:lnSpc>
                <a:spcPct val="100000"/>
              </a:lnSpc>
              <a:spcBef>
                <a:spcPts val="9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  <a:ea typeface="Arial"/>
              </a:rPr>
              <a:t>Embed powerful applications within Pipeline Pilot protocols and deploy to mobile users</a:t>
            </a:r>
            <a:endParaRPr b="0" lang="en-US" sz="38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7" name="ACS-8Sep2013.ppt_media/WorldChartingAndOthers-1.mov" descr=""/>
          <p:cNvPicPr/>
          <p:nvPr/>
        </p:nvPicPr>
        <p:blipFill>
          <a:blip r:embed="rId1"/>
          <a:stretch/>
        </p:blipFill>
        <p:spPr>
          <a:xfrm>
            <a:off x="1193760" y="1625760"/>
            <a:ext cx="9620280" cy="7378560"/>
          </a:xfrm>
          <a:prstGeom prst="rect">
            <a:avLst/>
          </a:prstGeom>
          <a:ln w="0">
            <a:noFill/>
          </a:ln>
        </p:spPr>
      </p:pic>
      <p:sp>
        <p:nvSpPr>
          <p:cNvPr id="628" name=""/>
          <p:cNvSpPr/>
          <p:nvPr/>
        </p:nvSpPr>
        <p:spPr>
          <a:xfrm>
            <a:off x="0" y="0"/>
            <a:ext cx="13004640" cy="1193760"/>
          </a:xfrm>
          <a:prstGeom prst="rect">
            <a:avLst/>
          </a:prstGeom>
          <a:gradFill rotWithShape="0">
            <a:gsLst>
              <a:gs pos="0">
                <a:srgbClr val="33b319"/>
              </a:gs>
              <a:gs pos="100000">
                <a:srgbClr val="ecd8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31280" y="136080"/>
            <a:ext cx="11709720" cy="1003320"/>
          </a:xfrm>
          <a:prstGeom prst="rect">
            <a:avLst/>
          </a:prstGeom>
          <a:noFill/>
          <a:ln w="0">
            <a:noFill/>
          </a:ln>
        </p:spPr>
        <p:txBody>
          <a:bodyPr lIns="50760" rIns="166320" tIns="50760" bIns="50760" anchor="ctr">
            <a:noAutofit/>
          </a:bodyPr>
          <a:p>
            <a:pPr marL="572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tilize Dynamic Graphs and Chart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0" name="ACS-8Sep2013.ppt_media/OnTheGo-1.mov" descr=""/>
          <p:cNvPicPr/>
          <p:nvPr/>
        </p:nvPicPr>
        <p:blipFill>
          <a:blip r:embed="rId1"/>
          <a:stretch/>
        </p:blipFill>
        <p:spPr>
          <a:xfrm>
            <a:off x="1079640" y="1498680"/>
            <a:ext cx="10248840" cy="7904160"/>
          </a:xfrm>
          <a:prstGeom prst="rect">
            <a:avLst/>
          </a:prstGeom>
          <a:ln w="0">
            <a:noFill/>
          </a:ln>
        </p:spPr>
      </p:pic>
      <p:sp>
        <p:nvSpPr>
          <p:cNvPr id="631" name=""/>
          <p:cNvSpPr/>
          <p:nvPr/>
        </p:nvSpPr>
        <p:spPr>
          <a:xfrm>
            <a:off x="0" y="0"/>
            <a:ext cx="13004640" cy="1193760"/>
          </a:xfrm>
          <a:prstGeom prst="rect">
            <a:avLst/>
          </a:prstGeom>
          <a:gradFill rotWithShape="0">
            <a:gsLst>
              <a:gs pos="0">
                <a:srgbClr val="33b319"/>
              </a:gs>
              <a:gs pos="100000">
                <a:srgbClr val="ecd8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355680" y="-1440"/>
            <a:ext cx="11709360" cy="1077840"/>
          </a:xfrm>
          <a:prstGeom prst="rect">
            <a:avLst/>
          </a:prstGeom>
          <a:noFill/>
          <a:ln w="0">
            <a:noFill/>
          </a:ln>
        </p:spPr>
        <p:txBody>
          <a:bodyPr lIns="50760" rIns="166320" tIns="50760" bIns="50760" anchor="ctr">
            <a:noAutofit/>
          </a:bodyPr>
          <a:p>
            <a:pPr marL="572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bmit Long-Running Protocols “On-the-Go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ACS-8Sep2013.ppt_media/ShareKnee-1.mov" descr=""/>
          <p:cNvPicPr/>
          <p:nvPr/>
        </p:nvPicPr>
        <p:blipFill>
          <a:blip r:embed="rId1"/>
          <a:stretch/>
        </p:blipFill>
        <p:spPr>
          <a:xfrm>
            <a:off x="658800" y="1384200"/>
            <a:ext cx="6357960" cy="8305920"/>
          </a:xfrm>
          <a:prstGeom prst="rect">
            <a:avLst/>
          </a:prstGeom>
          <a:ln w="0">
            <a:noFill/>
          </a:ln>
        </p:spPr>
      </p:pic>
      <p:sp>
        <p:nvSpPr>
          <p:cNvPr id="634" name=""/>
          <p:cNvSpPr/>
          <p:nvPr/>
        </p:nvSpPr>
        <p:spPr>
          <a:xfrm>
            <a:off x="0" y="0"/>
            <a:ext cx="13004640" cy="1193760"/>
          </a:xfrm>
          <a:prstGeom prst="rect">
            <a:avLst/>
          </a:prstGeom>
          <a:gradFill rotWithShape="0">
            <a:gsLst>
              <a:gs pos="0">
                <a:srgbClr val="33b319"/>
              </a:gs>
              <a:gs pos="100000">
                <a:srgbClr val="ecd8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304920" y="-1440"/>
            <a:ext cx="11709360" cy="1103040"/>
          </a:xfrm>
          <a:prstGeom prst="rect">
            <a:avLst/>
          </a:prstGeom>
          <a:noFill/>
          <a:ln w="0">
            <a:noFill/>
          </a:ln>
        </p:spPr>
        <p:txBody>
          <a:bodyPr lIns="50760" rIns="166320" tIns="50760" bIns="50760" anchor="ctr">
            <a:noAutofit/>
          </a:bodyPr>
          <a:p>
            <a:pPr marL="572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are Protocol Repor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7035840" y="2552760"/>
            <a:ext cx="5854680" cy="30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t">
            <a:noAutofit/>
          </a:bodyPr>
          <a:p>
            <a:pPr>
              <a:lnSpc>
                <a:spcPct val="100000"/>
              </a:lnSpc>
              <a:spcBef>
                <a:spcPts val="9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  <a:ea typeface="Arial"/>
              </a:rPr>
              <a:t>Results can be shared between mobile devices, from desktop to mobile, and from mobile to desktop</a:t>
            </a:r>
            <a:endParaRPr b="0" lang="en-US" sz="38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7" name="ACS-8Sep2013.ppt_media/InitiateFromWebLink-1.mov" descr=""/>
          <p:cNvPicPr/>
          <p:nvPr/>
        </p:nvPicPr>
        <p:blipFill>
          <a:blip r:embed="rId1"/>
          <a:stretch/>
        </p:blipFill>
        <p:spPr>
          <a:xfrm>
            <a:off x="558720" y="1308240"/>
            <a:ext cx="6426360" cy="8343720"/>
          </a:xfrm>
          <a:prstGeom prst="rect">
            <a:avLst/>
          </a:prstGeom>
          <a:ln w="0">
            <a:noFill/>
          </a:ln>
        </p:spPr>
      </p:pic>
      <p:sp>
        <p:nvSpPr>
          <p:cNvPr id="638" name=""/>
          <p:cNvSpPr/>
          <p:nvPr/>
        </p:nvSpPr>
        <p:spPr>
          <a:xfrm>
            <a:off x="0" y="0"/>
            <a:ext cx="13004640" cy="1193760"/>
          </a:xfrm>
          <a:prstGeom prst="rect">
            <a:avLst/>
          </a:prstGeom>
          <a:gradFill rotWithShape="0">
            <a:gsLst>
              <a:gs pos="0">
                <a:srgbClr val="33b319"/>
              </a:gs>
              <a:gs pos="100000">
                <a:srgbClr val="ecd8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93840" y="110880"/>
            <a:ext cx="11709360" cy="1028520"/>
          </a:xfrm>
          <a:prstGeom prst="rect">
            <a:avLst/>
          </a:prstGeom>
          <a:noFill/>
          <a:ln w="0">
            <a:noFill/>
          </a:ln>
        </p:spPr>
        <p:txBody>
          <a:bodyPr lIns="50760" rIns="166320" tIns="50760" bIns="50760" anchor="ctr">
            <a:noAutofit/>
          </a:bodyPr>
          <a:p>
            <a:pPr marL="572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itiate Protocols from WebSite UR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7442280" y="3187800"/>
            <a:ext cx="4914720" cy="30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t">
            <a:noAutofit/>
          </a:bodyPr>
          <a:p>
            <a:pPr>
              <a:lnSpc>
                <a:spcPct val="100000"/>
              </a:lnSpc>
              <a:spcBef>
                <a:spcPts val="9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  <a:ea typeface="Arial"/>
              </a:rPr>
              <a:t>Embed links in websites which will launch and execute protocols through PP Mobile</a:t>
            </a:r>
            <a:endParaRPr b="0" lang="en-US" sz="38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1" name="ACS-8Sep2013.ppt_media/molecueShare-1.mov" descr=""/>
          <p:cNvPicPr/>
          <p:nvPr/>
        </p:nvPicPr>
        <p:blipFill>
          <a:blip r:embed="rId1"/>
          <a:stretch/>
        </p:blipFill>
        <p:spPr>
          <a:xfrm>
            <a:off x="977760" y="1333440"/>
            <a:ext cx="11047680" cy="8267760"/>
          </a:xfrm>
          <a:prstGeom prst="rect">
            <a:avLst/>
          </a:prstGeom>
          <a:ln w="0">
            <a:noFill/>
          </a:ln>
        </p:spPr>
      </p:pic>
      <p:sp>
        <p:nvSpPr>
          <p:cNvPr id="642" name=""/>
          <p:cNvSpPr/>
          <p:nvPr/>
        </p:nvSpPr>
        <p:spPr>
          <a:xfrm>
            <a:off x="0" y="0"/>
            <a:ext cx="13004640" cy="1193760"/>
          </a:xfrm>
          <a:prstGeom prst="rect">
            <a:avLst/>
          </a:prstGeom>
          <a:gradFill rotWithShape="0">
            <a:gsLst>
              <a:gs pos="0">
                <a:srgbClr val="33b319"/>
              </a:gs>
              <a:gs pos="100000">
                <a:srgbClr val="ecd8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11709360" cy="901800"/>
          </a:xfrm>
          <a:prstGeom prst="rect">
            <a:avLst/>
          </a:prstGeom>
          <a:noFill/>
          <a:ln w="0">
            <a:noFill/>
          </a:ln>
        </p:spPr>
        <p:txBody>
          <a:bodyPr lIns="50760" rIns="166320" tIns="50760" bIns="50760" anchor="ctr">
            <a:noAutofit/>
          </a:bodyPr>
          <a:p>
            <a:pPr marL="572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ort and Share Data with Other Ap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4" name="ACS-8Sep2013.ppt_media/EnumerateIonicStates-1.mov" descr=""/>
          <p:cNvPicPr/>
          <p:nvPr/>
        </p:nvPicPr>
        <p:blipFill>
          <a:blip r:embed="rId1"/>
          <a:stretch/>
        </p:blipFill>
        <p:spPr>
          <a:xfrm>
            <a:off x="127080" y="1955880"/>
            <a:ext cx="12755520" cy="6794280"/>
          </a:xfrm>
          <a:prstGeom prst="rect">
            <a:avLst/>
          </a:prstGeom>
          <a:ln w="0">
            <a:noFill/>
          </a:ln>
        </p:spPr>
      </p:pic>
      <p:sp>
        <p:nvSpPr>
          <p:cNvPr id="645" name=""/>
          <p:cNvSpPr/>
          <p:nvPr/>
        </p:nvSpPr>
        <p:spPr>
          <a:xfrm>
            <a:off x="0" y="0"/>
            <a:ext cx="13004640" cy="1193760"/>
          </a:xfrm>
          <a:prstGeom prst="rect">
            <a:avLst/>
          </a:prstGeom>
          <a:gradFill rotWithShape="0">
            <a:gsLst>
              <a:gs pos="0">
                <a:srgbClr val="33b319"/>
              </a:gs>
              <a:gs pos="100000">
                <a:srgbClr val="ecd8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380880" y="123480"/>
            <a:ext cx="11709360" cy="1041480"/>
          </a:xfrm>
          <a:prstGeom prst="rect">
            <a:avLst/>
          </a:prstGeom>
          <a:noFill/>
          <a:ln w="0">
            <a:noFill/>
          </a:ln>
        </p:spPr>
        <p:txBody>
          <a:bodyPr lIns="50760" rIns="166320" tIns="50760" bIns="50760" anchor="ctr">
            <a:noAutofit/>
          </a:bodyPr>
          <a:p>
            <a:pPr marL="572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gaging Mobile Users and Developer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"/>
          <p:cNvSpPr/>
          <p:nvPr/>
        </p:nvSpPr>
        <p:spPr>
          <a:xfrm>
            <a:off x="0" y="0"/>
            <a:ext cx="13004640" cy="1193760"/>
          </a:xfrm>
          <a:prstGeom prst="rect">
            <a:avLst/>
          </a:prstGeom>
          <a:gradFill rotWithShape="0">
            <a:gsLst>
              <a:gs pos="0">
                <a:srgbClr val="33b319"/>
              </a:gs>
              <a:gs pos="100000">
                <a:srgbClr val="ecd8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533520" y="98280"/>
            <a:ext cx="11709360" cy="1054080"/>
          </a:xfrm>
          <a:prstGeom prst="rect">
            <a:avLst/>
          </a:prstGeom>
          <a:noFill/>
          <a:ln w="0">
            <a:noFill/>
          </a:ln>
        </p:spPr>
        <p:txBody>
          <a:bodyPr lIns="50760" rIns="166320" tIns="50760" bIns="50760" anchor="ctr">
            <a:noAutofit/>
          </a:bodyPr>
          <a:p>
            <a:pPr marL="572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651960" y="1812960"/>
            <a:ext cx="11709720" cy="7734240"/>
          </a:xfrm>
          <a:prstGeom prst="rect">
            <a:avLst/>
          </a:prstGeom>
          <a:noFill/>
          <a:ln w="0">
            <a:noFill/>
          </a:ln>
        </p:spPr>
        <p:txBody>
          <a:bodyPr lIns="50760" rIns="166320" tIns="50760" bIns="50760" anchor="t">
            <a:normAutofit/>
          </a:bodyPr>
          <a:p>
            <a:pPr marL="382680" indent="-3430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  <a:ea typeface="Arial"/>
              </a:rPr>
              <a:t>Many Mobile Opportunities Exist in our “Space” </a:t>
            </a: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  <a:p>
            <a:pPr marL="382680" indent="-343080">
              <a:lnSpc>
                <a:spcPct val="100000"/>
              </a:lnSpc>
              <a:spcBef>
                <a:spcPts val="32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  <a:ea typeface="Arial"/>
              </a:rPr>
              <a:t>Until Now, Science Apps Have Been Largely Vertical, Point Solutions</a:t>
            </a: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  <a:p>
            <a:pPr marL="382680" indent="-343080">
              <a:lnSpc>
                <a:spcPct val="100000"/>
              </a:lnSpc>
              <a:spcBef>
                <a:spcPts val="32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  <a:ea typeface="Arial"/>
              </a:rPr>
              <a:t>A New “Game Changing” Mobile Collection / Mobile App Will Greatly Broaden the Scope of Apps in our Space</a:t>
            </a: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  <a:p>
            <a:pPr marL="382680" indent="-343080">
              <a:lnSpc>
                <a:spcPct val="100000"/>
              </a:lnSpc>
              <a:spcBef>
                <a:spcPts val="32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  <a:ea typeface="Arial"/>
              </a:rPr>
              <a:t>Comments, Questions, and Requests to Participate in the Testing Program:</a:t>
            </a: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  <a:p>
            <a:pPr lvl="1" marL="782640" indent="-285840">
              <a:lnSpc>
                <a:spcPct val="100000"/>
              </a:lnSpc>
              <a:spcBef>
                <a:spcPts val="3200"/>
              </a:spcBef>
              <a:buClr>
                <a:srgbClr val="000000"/>
              </a:buClr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Contact Ton van Daelen, Product Manager, Accelrys Science Cloud (tvd@accelrys.com)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"/>
          <p:cNvSpPr/>
          <p:nvPr/>
        </p:nvSpPr>
        <p:spPr>
          <a:xfrm>
            <a:off x="0" y="0"/>
            <a:ext cx="13004640" cy="1193760"/>
          </a:xfrm>
          <a:prstGeom prst="rect">
            <a:avLst/>
          </a:prstGeom>
          <a:gradFill rotWithShape="0">
            <a:gsLst>
              <a:gs pos="0">
                <a:srgbClr val="33b319"/>
              </a:gs>
              <a:gs pos="100000">
                <a:srgbClr val="ecd8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571" name="" descr=""/>
          <p:cNvPicPr/>
          <p:nvPr/>
        </p:nvPicPr>
        <p:blipFill>
          <a:blip r:embed="rId1"/>
          <a:stretch/>
        </p:blipFill>
        <p:spPr>
          <a:xfrm>
            <a:off x="291960" y="2438280"/>
            <a:ext cx="12408120" cy="5105520"/>
          </a:xfrm>
          <a:prstGeom prst="rect">
            <a:avLst/>
          </a:prstGeom>
          <a:ln w="19080">
            <a:solidFill>
              <a:srgbClr val="000000"/>
            </a:solidFill>
            <a:round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</p:pic>
      <p:sp>
        <p:nvSpPr>
          <p:cNvPr id="572" name=""/>
          <p:cNvSpPr/>
          <p:nvPr/>
        </p:nvSpPr>
        <p:spPr>
          <a:xfrm>
            <a:off x="554040" y="203040"/>
            <a:ext cx="1189944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57960" tIns="0" bIns="0" anchor="t">
            <a:spAutoFit/>
          </a:bodyPr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Mobile Computing Opportunities in “Our Space”</a:t>
            </a:r>
            <a:endParaRPr b="0" lang="en-US" sz="4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228600" y="9004320"/>
            <a:ext cx="9250200" cy="102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5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494949"/>
                </a:solidFill>
                <a:latin typeface="Arial Unicode MS"/>
                <a:ea typeface="Arial Unicode MS"/>
              </a:rPr>
              <a:t>Mobile apps for chemistry in the world of drug discovery: </a:t>
            </a:r>
            <a:r>
              <a:rPr b="0" lang="en-US" sz="1100" spc="-1" strike="noStrike" u="sng">
                <a:solidFill>
                  <a:srgbClr val="26578b"/>
                </a:solidFill>
                <a:uFillTx/>
                <a:latin typeface="Arial Unicode MS"/>
                <a:ea typeface="Arial Unicode MS"/>
              </a:rPr>
              <a:t>Volume 16, Issues 21–22</a:t>
            </a:r>
            <a:r>
              <a:rPr b="0" lang="en-US" sz="1100" spc="-1" strike="noStrike">
                <a:solidFill>
                  <a:srgbClr val="222222"/>
                </a:solidFill>
                <a:latin typeface="Arial Unicode MS"/>
                <a:ea typeface="Arial Unicode MS"/>
              </a:rPr>
              <a:t>, November 2011, Pages 928–939</a:t>
            </a:r>
            <a:endParaRPr b="0" lang="en-US" sz="11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lnSpc>
                <a:spcPts val="25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"/>
          <p:cNvSpPr/>
          <p:nvPr/>
        </p:nvSpPr>
        <p:spPr>
          <a:xfrm>
            <a:off x="0" y="0"/>
            <a:ext cx="13004640" cy="1193760"/>
          </a:xfrm>
          <a:prstGeom prst="rect">
            <a:avLst/>
          </a:prstGeom>
          <a:gradFill rotWithShape="0">
            <a:gsLst>
              <a:gs pos="0">
                <a:srgbClr val="33b319"/>
              </a:gs>
              <a:gs pos="100000">
                <a:srgbClr val="ecd8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380880" y="123480"/>
            <a:ext cx="11709360" cy="1003320"/>
          </a:xfrm>
          <a:prstGeom prst="rect">
            <a:avLst/>
          </a:prstGeom>
          <a:noFill/>
          <a:ln w="0">
            <a:noFill/>
          </a:ln>
        </p:spPr>
        <p:txBody>
          <a:bodyPr lIns="50760" rIns="166320" tIns="50760" bIns="50760" anchor="ctr">
            <a:noAutofit/>
          </a:bodyPr>
          <a:p>
            <a:pPr marL="572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87440" y="1495440"/>
            <a:ext cx="11709360" cy="7810560"/>
          </a:xfrm>
          <a:prstGeom prst="rect">
            <a:avLst/>
          </a:prstGeom>
          <a:noFill/>
          <a:ln w="0">
            <a:noFill/>
          </a:ln>
        </p:spPr>
        <p:txBody>
          <a:bodyPr lIns="50760" rIns="16632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ccelry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82640" indent="-28584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att Hah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82640" indent="-28584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e Rog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82640" indent="-28584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Jung K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82640" indent="-28584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n van Dael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8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826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nfoCh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82640" indent="-28584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eter Löw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82640" indent="-28584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Josef Eiblmai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82640" indent="-28584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Valentina Eigner-Pito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53" name="" descr=""/>
          <p:cNvPicPr/>
          <p:nvPr/>
        </p:nvPicPr>
        <p:blipFill>
          <a:blip r:embed="rId1"/>
          <a:stretch/>
        </p:blipFill>
        <p:spPr>
          <a:xfrm>
            <a:off x="4406760" y="5803920"/>
            <a:ext cx="889200" cy="888840"/>
          </a:xfrm>
          <a:prstGeom prst="rect">
            <a:avLst/>
          </a:prstGeom>
          <a:ln w="0">
            <a:noFill/>
          </a:ln>
        </p:spPr>
      </p:pic>
      <p:pic>
        <p:nvPicPr>
          <p:cNvPr id="654" name="" descr=""/>
          <p:cNvPicPr/>
          <p:nvPr/>
        </p:nvPicPr>
        <p:blipFill>
          <a:blip r:embed="rId2"/>
          <a:stretch/>
        </p:blipFill>
        <p:spPr>
          <a:xfrm>
            <a:off x="4406760" y="1663560"/>
            <a:ext cx="882720" cy="889200"/>
          </a:xfrm>
          <a:prstGeom prst="rect">
            <a:avLst/>
          </a:prstGeom>
          <a:ln w="0">
            <a:noFill/>
          </a:ln>
        </p:spPr>
      </p:pic>
      <p:sp>
        <p:nvSpPr>
          <p:cNvPr id="655" name=""/>
          <p:cNvSpPr/>
          <p:nvPr/>
        </p:nvSpPr>
        <p:spPr>
          <a:xfrm>
            <a:off x="8309160" y="1600200"/>
            <a:ext cx="369216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57960" tIns="0" bIns="0" anchor="t">
            <a:spAutoFit/>
          </a:bodyPr>
          <a:p>
            <a:pPr marL="382680" indent="-343080">
              <a:lnSpc>
                <a:spcPct val="100000"/>
              </a:lnSpc>
              <a:spcBef>
                <a:spcPts val="964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aurizio Bronzetti</a:t>
            </a: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964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 Clark</a:t>
            </a: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"/>
          <p:cNvSpPr/>
          <p:nvPr/>
        </p:nvSpPr>
        <p:spPr>
          <a:xfrm>
            <a:off x="0" y="0"/>
            <a:ext cx="13004640" cy="1193760"/>
          </a:xfrm>
          <a:prstGeom prst="rect">
            <a:avLst/>
          </a:prstGeom>
          <a:gradFill rotWithShape="0">
            <a:gsLst>
              <a:gs pos="0">
                <a:srgbClr val="33b319"/>
              </a:gs>
              <a:gs pos="100000">
                <a:srgbClr val="ecd8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7" name="" descr=""/>
          <p:cNvPicPr/>
          <p:nvPr/>
        </p:nvPicPr>
        <p:blipFill>
          <a:blip r:embed="rId1"/>
          <a:stretch/>
        </p:blipFill>
        <p:spPr>
          <a:xfrm>
            <a:off x="7797960" y="2476440"/>
            <a:ext cx="4516200" cy="3289320"/>
          </a:xfrm>
          <a:prstGeom prst="rect">
            <a:avLst/>
          </a:prstGeom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</p:pic>
      <p:pic>
        <p:nvPicPr>
          <p:cNvPr id="658" name="" descr=""/>
          <p:cNvPicPr/>
          <p:nvPr/>
        </p:nvPicPr>
        <p:blipFill>
          <a:blip r:embed="rId2"/>
          <a:stretch/>
        </p:blipFill>
        <p:spPr>
          <a:xfrm>
            <a:off x="162000" y="3124080"/>
            <a:ext cx="7099200" cy="4700880"/>
          </a:xfrm>
          <a:prstGeom prst="rect">
            <a:avLst/>
          </a:prstGeom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</p:pic>
      <p:sp>
        <p:nvSpPr>
          <p:cNvPr id="659" name=""/>
          <p:cNvSpPr/>
          <p:nvPr/>
        </p:nvSpPr>
        <p:spPr>
          <a:xfrm>
            <a:off x="1562040" y="3924360"/>
            <a:ext cx="1144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660" name="" descr=""/>
          <p:cNvPicPr/>
          <p:nvPr/>
        </p:nvPicPr>
        <p:blipFill>
          <a:blip r:embed="rId3"/>
          <a:stretch/>
        </p:blipFill>
        <p:spPr>
          <a:xfrm>
            <a:off x="266760" y="1346040"/>
            <a:ext cx="1143000" cy="1143000"/>
          </a:xfrm>
          <a:prstGeom prst="rect">
            <a:avLst/>
          </a:prstGeom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</p:pic>
      <p:sp>
        <p:nvSpPr>
          <p:cNvPr id="661" name=""/>
          <p:cNvSpPr/>
          <p:nvPr/>
        </p:nvSpPr>
        <p:spPr>
          <a:xfrm>
            <a:off x="0" y="0"/>
            <a:ext cx="13004640" cy="1193760"/>
          </a:xfrm>
          <a:prstGeom prst="rect">
            <a:avLst/>
          </a:prstGeom>
          <a:gradFill rotWithShape="0">
            <a:gsLst>
              <a:gs pos="0">
                <a:srgbClr val="33b319"/>
              </a:gs>
              <a:gs pos="100000">
                <a:srgbClr val="ecd8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1066680" y="914400"/>
            <a:ext cx="1144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228600" y="-82800"/>
            <a:ext cx="11709360" cy="1260360"/>
          </a:xfrm>
          <a:prstGeom prst="rect">
            <a:avLst/>
          </a:prstGeom>
          <a:noFill/>
          <a:ln w="0">
            <a:noFill/>
          </a:ln>
        </p:spPr>
        <p:txBody>
          <a:bodyPr lIns="50760" rIns="166320" tIns="50760" bIns="50760" anchor="ctr">
            <a:noAutofit/>
          </a:bodyPr>
          <a:p>
            <a:pPr marL="572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PRESImobile - Update: Reaction Name Searching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1689120" y="1359000"/>
            <a:ext cx="1115064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0458c"/>
                </a:solidFill>
                <a:latin typeface="Arial Bold"/>
                <a:ea typeface="Arial Bold"/>
              </a:rPr>
              <a:t>SPRESImobile: 410,000 Chemical Reactions Freely Available</a:t>
            </a:r>
            <a:endParaRPr b="0" lang="en-US" sz="30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665" name="" descr=""/>
          <p:cNvPicPr/>
          <p:nvPr/>
        </p:nvPicPr>
        <p:blipFill>
          <a:blip r:embed="rId4"/>
          <a:stretch/>
        </p:blipFill>
        <p:spPr>
          <a:xfrm>
            <a:off x="7797960" y="6134040"/>
            <a:ext cx="4520880" cy="3317760"/>
          </a:xfrm>
          <a:prstGeom prst="rect">
            <a:avLst/>
          </a:prstGeom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0" y="0"/>
            <a:ext cx="13004640" cy="1193760"/>
          </a:xfrm>
          <a:prstGeom prst="rect">
            <a:avLst/>
          </a:prstGeom>
          <a:gradFill rotWithShape="0">
            <a:gsLst>
              <a:gs pos="0">
                <a:srgbClr val="33b319"/>
              </a:gs>
              <a:gs pos="100000">
                <a:srgbClr val="ecd8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"/>
          <p:cNvSpPr/>
          <p:nvPr/>
        </p:nvSpPr>
        <p:spPr>
          <a:xfrm>
            <a:off x="0" y="0"/>
            <a:ext cx="13004640" cy="1193760"/>
          </a:xfrm>
          <a:prstGeom prst="rect">
            <a:avLst/>
          </a:prstGeom>
          <a:gradFill rotWithShape="0">
            <a:gsLst>
              <a:gs pos="0">
                <a:srgbClr val="33b319"/>
              </a:gs>
              <a:gs pos="100000">
                <a:srgbClr val="ecd8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95360" y="-32040"/>
            <a:ext cx="11709360" cy="1260360"/>
          </a:xfrm>
          <a:prstGeom prst="rect">
            <a:avLst/>
          </a:prstGeom>
          <a:noFill/>
          <a:ln w="0">
            <a:noFill/>
          </a:ln>
        </p:spPr>
        <p:txBody>
          <a:bodyPr lIns="50760" rIns="166320" tIns="50760" bIns="50760" anchor="ctr">
            <a:noAutofit/>
          </a:bodyPr>
          <a:p>
            <a:pPr marL="572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idogen’s Apps: More than 40K Downloa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6" name="" descr=""/>
          <p:cNvPicPr/>
          <p:nvPr/>
        </p:nvPicPr>
        <p:blipFill>
          <a:blip r:embed="rId1"/>
          <a:stretch/>
        </p:blipFill>
        <p:spPr>
          <a:xfrm>
            <a:off x="1549440" y="1409760"/>
            <a:ext cx="9604440" cy="4444920"/>
          </a:xfrm>
          <a:prstGeom prst="rect">
            <a:avLst/>
          </a:prstGeom>
          <a:ln w="0">
            <a:noFill/>
          </a:ln>
        </p:spPr>
      </p:pic>
      <p:pic>
        <p:nvPicPr>
          <p:cNvPr id="577" name="" descr=""/>
          <p:cNvPicPr/>
          <p:nvPr/>
        </p:nvPicPr>
        <p:blipFill>
          <a:blip r:embed="rId2"/>
          <a:stretch/>
        </p:blipFill>
        <p:spPr>
          <a:xfrm>
            <a:off x="1536840" y="5575320"/>
            <a:ext cx="9613800" cy="2793960"/>
          </a:xfrm>
          <a:prstGeom prst="rect">
            <a:avLst/>
          </a:prstGeom>
          <a:ln w="0">
            <a:noFill/>
          </a:ln>
        </p:spPr>
      </p:pic>
      <p:pic>
        <p:nvPicPr>
          <p:cNvPr id="578" name="" descr=""/>
          <p:cNvPicPr/>
          <p:nvPr/>
        </p:nvPicPr>
        <p:blipFill>
          <a:blip r:embed="rId3"/>
          <a:stretch/>
        </p:blipFill>
        <p:spPr>
          <a:xfrm>
            <a:off x="609480" y="8115480"/>
            <a:ext cx="2425680" cy="1041120"/>
          </a:xfrm>
          <a:prstGeom prst="rect">
            <a:avLst/>
          </a:prstGeom>
          <a:ln w="0">
            <a:noFill/>
          </a:ln>
        </p:spPr>
      </p:pic>
      <p:sp>
        <p:nvSpPr>
          <p:cNvPr id="579" name=""/>
          <p:cNvSpPr/>
          <p:nvPr/>
        </p:nvSpPr>
        <p:spPr>
          <a:xfrm>
            <a:off x="206280" y="9334440"/>
            <a:ext cx="10072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0458c"/>
                </a:solidFill>
                <a:latin typeface="Arial"/>
                <a:ea typeface="Arial"/>
              </a:rPr>
              <a:t>Note: Reaction101,Yield101, and SPRESImobile - Built Collaboratively with Molecular Materials Informatics, Inc.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580" name="" descr=""/>
          <p:cNvPicPr/>
          <p:nvPr/>
        </p:nvPicPr>
        <p:blipFill>
          <a:blip r:embed="rId4"/>
          <a:stretch/>
        </p:blipFill>
        <p:spPr>
          <a:xfrm>
            <a:off x="5283360" y="6819840"/>
            <a:ext cx="927000" cy="482760"/>
          </a:xfrm>
          <a:prstGeom prst="rect">
            <a:avLst/>
          </a:prstGeom>
          <a:ln w="0">
            <a:noFill/>
          </a:ln>
        </p:spPr>
      </p:pic>
      <p:pic>
        <p:nvPicPr>
          <p:cNvPr id="581" name="" descr=""/>
          <p:cNvPicPr/>
          <p:nvPr/>
        </p:nvPicPr>
        <p:blipFill>
          <a:blip r:embed="rId5"/>
          <a:stretch/>
        </p:blipFill>
        <p:spPr>
          <a:xfrm>
            <a:off x="7391520" y="6819840"/>
            <a:ext cx="927000" cy="482760"/>
          </a:xfrm>
          <a:prstGeom prst="rect">
            <a:avLst/>
          </a:prstGeom>
          <a:ln w="0">
            <a:noFill/>
          </a:ln>
        </p:spPr>
      </p:pic>
      <p:pic>
        <p:nvPicPr>
          <p:cNvPr id="582" name="" descr=""/>
          <p:cNvPicPr/>
          <p:nvPr/>
        </p:nvPicPr>
        <p:blipFill>
          <a:blip r:embed="rId6"/>
          <a:stretch/>
        </p:blipFill>
        <p:spPr>
          <a:xfrm>
            <a:off x="2819520" y="6858000"/>
            <a:ext cx="546120" cy="406440"/>
          </a:xfrm>
          <a:prstGeom prst="rect">
            <a:avLst/>
          </a:prstGeom>
          <a:ln w="0">
            <a:noFill/>
          </a:ln>
        </p:spPr>
      </p:pic>
      <p:pic>
        <p:nvPicPr>
          <p:cNvPr id="583" name="" descr=""/>
          <p:cNvPicPr/>
          <p:nvPr/>
        </p:nvPicPr>
        <p:blipFill>
          <a:blip r:embed="rId7"/>
          <a:stretch/>
        </p:blipFill>
        <p:spPr>
          <a:xfrm>
            <a:off x="9499680" y="6845400"/>
            <a:ext cx="546120" cy="406440"/>
          </a:xfrm>
          <a:prstGeom prst="rect">
            <a:avLst/>
          </a:prstGeom>
          <a:ln w="0">
            <a:noFill/>
          </a:ln>
        </p:spPr>
      </p:pic>
      <p:pic>
        <p:nvPicPr>
          <p:cNvPr id="584" name="" descr=""/>
          <p:cNvPicPr/>
          <p:nvPr/>
        </p:nvPicPr>
        <p:blipFill>
          <a:blip r:embed="rId8"/>
          <a:stretch/>
        </p:blipFill>
        <p:spPr>
          <a:xfrm>
            <a:off x="4317840" y="8242200"/>
            <a:ext cx="546120" cy="406440"/>
          </a:xfrm>
          <a:prstGeom prst="rect">
            <a:avLst/>
          </a:prstGeom>
          <a:ln w="0">
            <a:noFill/>
          </a:ln>
        </p:spPr>
      </p:pic>
      <p:pic>
        <p:nvPicPr>
          <p:cNvPr id="585" name="" descr=""/>
          <p:cNvPicPr/>
          <p:nvPr/>
        </p:nvPicPr>
        <p:blipFill>
          <a:blip r:embed="rId9"/>
          <a:stretch/>
        </p:blipFill>
        <p:spPr>
          <a:xfrm>
            <a:off x="6794640" y="8242200"/>
            <a:ext cx="546120" cy="406440"/>
          </a:xfrm>
          <a:prstGeom prst="rect">
            <a:avLst/>
          </a:prstGeom>
          <a:ln w="0">
            <a:noFill/>
          </a:ln>
        </p:spPr>
      </p:pic>
      <p:pic>
        <p:nvPicPr>
          <p:cNvPr id="586" name="" descr=""/>
          <p:cNvPicPr/>
          <p:nvPr/>
        </p:nvPicPr>
        <p:blipFill>
          <a:blip r:embed="rId10"/>
          <a:stretch/>
        </p:blipFill>
        <p:spPr>
          <a:xfrm>
            <a:off x="9105840" y="8242200"/>
            <a:ext cx="546120" cy="40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"/>
          <p:cNvSpPr/>
          <p:nvPr/>
        </p:nvSpPr>
        <p:spPr>
          <a:xfrm>
            <a:off x="0" y="0"/>
            <a:ext cx="13004640" cy="1193760"/>
          </a:xfrm>
          <a:prstGeom prst="rect">
            <a:avLst/>
          </a:prstGeom>
          <a:gradFill rotWithShape="0">
            <a:gsLst>
              <a:gs pos="0">
                <a:srgbClr val="33b319"/>
              </a:gs>
              <a:gs pos="100000">
                <a:srgbClr val="ecd8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266760" y="228600"/>
            <a:ext cx="12737880" cy="7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t">
            <a:noAutofit/>
          </a:bodyPr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MobileApps Support Real Scientific Workflows </a:t>
            </a:r>
            <a:endParaRPr b="0" lang="en-US" sz="44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589" name="" descr=""/>
          <p:cNvPicPr/>
          <p:nvPr/>
        </p:nvPicPr>
        <p:blipFill>
          <a:blip r:embed="rId1"/>
          <a:stretch/>
        </p:blipFill>
        <p:spPr>
          <a:xfrm>
            <a:off x="216000" y="1255680"/>
            <a:ext cx="4203720" cy="5514840"/>
          </a:xfrm>
          <a:prstGeom prst="rect">
            <a:avLst/>
          </a:prstGeom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</p:pic>
      <p:pic>
        <p:nvPicPr>
          <p:cNvPr id="590" name="" descr=""/>
          <p:cNvPicPr/>
          <p:nvPr/>
        </p:nvPicPr>
        <p:blipFill>
          <a:blip r:embed="rId2"/>
          <a:stretch/>
        </p:blipFill>
        <p:spPr>
          <a:xfrm>
            <a:off x="4521240" y="1738440"/>
            <a:ext cx="4228920" cy="5521320"/>
          </a:xfrm>
          <a:prstGeom prst="rect">
            <a:avLst/>
          </a:prstGeom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</p:pic>
      <p:pic>
        <p:nvPicPr>
          <p:cNvPr id="591" name="" descr=""/>
          <p:cNvPicPr/>
          <p:nvPr/>
        </p:nvPicPr>
        <p:blipFill>
          <a:blip r:embed="rId3"/>
          <a:stretch/>
        </p:blipFill>
        <p:spPr>
          <a:xfrm>
            <a:off x="8850240" y="2336760"/>
            <a:ext cx="4118040" cy="5372280"/>
          </a:xfrm>
          <a:prstGeom prst="rect">
            <a:avLst/>
          </a:prstGeom>
          <a:ln w="0">
            <a:noFill/>
          </a:ln>
        </p:spPr>
      </p:pic>
      <p:pic>
        <p:nvPicPr>
          <p:cNvPr id="592" name="" descr=""/>
          <p:cNvPicPr/>
          <p:nvPr/>
        </p:nvPicPr>
        <p:blipFill>
          <a:blip r:embed="rId4"/>
          <a:stretch/>
        </p:blipFill>
        <p:spPr>
          <a:xfrm>
            <a:off x="6159600" y="7518240"/>
            <a:ext cx="952560" cy="1285920"/>
          </a:xfrm>
          <a:prstGeom prst="rect">
            <a:avLst/>
          </a:prstGeom>
          <a:ln w="0">
            <a:noFill/>
          </a:ln>
        </p:spPr>
      </p:pic>
      <p:pic>
        <p:nvPicPr>
          <p:cNvPr id="593" name="" descr=""/>
          <p:cNvPicPr/>
          <p:nvPr/>
        </p:nvPicPr>
        <p:blipFill>
          <a:blip r:embed="rId5"/>
          <a:stretch/>
        </p:blipFill>
        <p:spPr>
          <a:xfrm>
            <a:off x="10490040" y="7950240"/>
            <a:ext cx="838440" cy="1162080"/>
          </a:xfrm>
          <a:prstGeom prst="rect">
            <a:avLst/>
          </a:prstGeom>
          <a:ln w="0">
            <a:noFill/>
          </a:ln>
        </p:spPr>
      </p:pic>
      <p:sp>
        <p:nvSpPr>
          <p:cNvPr id="594" name=""/>
          <p:cNvSpPr/>
          <p:nvPr/>
        </p:nvSpPr>
        <p:spPr>
          <a:xfrm>
            <a:off x="297720" y="8534520"/>
            <a:ext cx="4047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57960" tIns="0" bIns="0" anchor="t">
            <a:spAutoFit/>
          </a:bodyPr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ioactivity searching (e.g. kinase SAR)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5276160" y="8737560"/>
            <a:ext cx="2446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57960" tIns="0" bIns="0" anchor="t">
            <a:spAutoFit/>
          </a:bodyPr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mercial availability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9784440" y="9131400"/>
            <a:ext cx="2028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57960" tIns="0" bIns="0" anchor="t">
            <a:spAutoFit/>
          </a:bodyPr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ynthesis planning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597" name="" descr=""/>
          <p:cNvPicPr/>
          <p:nvPr/>
        </p:nvPicPr>
        <p:blipFill>
          <a:blip r:embed="rId6"/>
          <a:stretch/>
        </p:blipFill>
        <p:spPr>
          <a:xfrm>
            <a:off x="1828800" y="6934320"/>
            <a:ext cx="954000" cy="1434960"/>
          </a:xfrm>
          <a:prstGeom prst="rect">
            <a:avLst/>
          </a:prstGeom>
          <a:ln w="0">
            <a:noFill/>
          </a:ln>
        </p:spPr>
      </p:pic>
      <p:pic>
        <p:nvPicPr>
          <p:cNvPr id="598" name="" descr=""/>
          <p:cNvPicPr/>
          <p:nvPr/>
        </p:nvPicPr>
        <p:blipFill>
          <a:blip r:embed="rId7"/>
          <a:stretch/>
        </p:blipFill>
        <p:spPr>
          <a:xfrm>
            <a:off x="6993000" y="8458200"/>
            <a:ext cx="284040" cy="266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"/>
          <p:cNvSpPr/>
          <p:nvPr/>
        </p:nvSpPr>
        <p:spPr>
          <a:xfrm>
            <a:off x="0" y="0"/>
            <a:ext cx="13004640" cy="1193760"/>
          </a:xfrm>
          <a:prstGeom prst="rect">
            <a:avLst/>
          </a:prstGeom>
          <a:gradFill rotWithShape="0">
            <a:gsLst>
              <a:gs pos="0">
                <a:srgbClr val="33b319"/>
              </a:gs>
              <a:gs pos="100000">
                <a:srgbClr val="ecd8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47640" y="118800"/>
            <a:ext cx="11709360" cy="1003320"/>
          </a:xfrm>
          <a:prstGeom prst="rect">
            <a:avLst/>
          </a:prstGeom>
          <a:noFill/>
          <a:ln w="0">
            <a:noFill/>
          </a:ln>
        </p:spPr>
        <p:txBody>
          <a:bodyPr lIns="50760" rIns="166320" tIns="50760" bIns="50760" anchor="ctr">
            <a:noAutofit/>
          </a:bodyPr>
          <a:p>
            <a:pPr marL="572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ience Apps of Tod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563400" y="1609200"/>
            <a:ext cx="11887200" cy="6223320"/>
          </a:xfrm>
          <a:prstGeom prst="rect">
            <a:avLst/>
          </a:prstGeom>
          <a:noFill/>
          <a:ln w="0">
            <a:noFill/>
          </a:ln>
        </p:spPr>
        <p:txBody>
          <a:bodyPr lIns="50760" rIns="166320" tIns="50760" bIns="50760" anchor="t">
            <a:normAutofit/>
          </a:bodyPr>
          <a:p>
            <a:pPr marL="382680" indent="-3430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  <a:ea typeface="Arial"/>
              </a:rPr>
              <a:t>Largely Vertical, Point Solutions</a:t>
            </a: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  <a:p>
            <a:pPr marL="382680" indent="-343080">
              <a:lnSpc>
                <a:spcPct val="100000"/>
              </a:lnSpc>
              <a:spcBef>
                <a:spcPts val="32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  <a:ea typeface="Arial"/>
              </a:rPr>
              <a:t>Development Requires Sophisticated Knowledge of Mobile Computing Development Environments</a:t>
            </a: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  <a:p>
            <a:pPr marL="382680" indent="-343080">
              <a:lnSpc>
                <a:spcPct val="100000"/>
              </a:lnSpc>
              <a:spcBef>
                <a:spcPts val="32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  <a:ea typeface="Arial"/>
              </a:rPr>
              <a:t>Development Often Requires Knowledge of Cloud Computing/LAMP environments</a:t>
            </a: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  <a:p>
            <a:pPr marL="382680" indent="-343080">
              <a:lnSpc>
                <a:spcPct val="100000"/>
              </a:lnSpc>
              <a:spcBef>
                <a:spcPts val="32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  <a:ea typeface="Arial"/>
              </a:rPr>
              <a:t>Only Some Enable App Integration (e.g. client-side standard filetype sharing) </a:t>
            </a: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"/>
          <p:cNvSpPr/>
          <p:nvPr/>
        </p:nvSpPr>
        <p:spPr>
          <a:xfrm>
            <a:off x="0" y="0"/>
            <a:ext cx="13004640" cy="1193760"/>
          </a:xfrm>
          <a:prstGeom prst="rect">
            <a:avLst/>
          </a:prstGeom>
          <a:gradFill rotWithShape="0">
            <a:gsLst>
              <a:gs pos="0">
                <a:srgbClr val="33b319"/>
              </a:gs>
              <a:gs pos="100000">
                <a:srgbClr val="ecd8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603" name="PlaceHolder 1"/>
          <p:cNvSpPr>
            <a:spLocks noGrp="1"/>
          </p:cNvSpPr>
          <p:nvPr>
            <p:ph/>
          </p:nvPr>
        </p:nvSpPr>
        <p:spPr>
          <a:xfrm>
            <a:off x="563400" y="1609200"/>
            <a:ext cx="11887200" cy="6223320"/>
          </a:xfrm>
          <a:prstGeom prst="rect">
            <a:avLst/>
          </a:prstGeom>
          <a:noFill/>
          <a:ln w="0">
            <a:noFill/>
          </a:ln>
        </p:spPr>
        <p:txBody>
          <a:bodyPr lIns="50760" rIns="166320" tIns="50760" bIns="50760" anchor="t">
            <a:normAutofit/>
          </a:bodyPr>
          <a:p>
            <a:pPr marL="382680" indent="-3430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  <a:ea typeface="Arial"/>
              </a:rPr>
              <a:t>Largely Vertical, Point Solutions</a:t>
            </a: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  <a:p>
            <a:pPr marL="382680" indent="-343080">
              <a:lnSpc>
                <a:spcPct val="100000"/>
              </a:lnSpc>
              <a:spcBef>
                <a:spcPts val="32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  <a:ea typeface="Arial"/>
              </a:rPr>
              <a:t>Development Requires Sophisticated Knowledge of Mobile Computing Development Environments</a:t>
            </a: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  <a:p>
            <a:pPr marL="382680" indent="-343080">
              <a:lnSpc>
                <a:spcPct val="100000"/>
              </a:lnSpc>
              <a:spcBef>
                <a:spcPts val="32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  <a:ea typeface="Arial"/>
              </a:rPr>
              <a:t>Development Often Requires Knowledge of Cloud Computing/LAMP environments</a:t>
            </a: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  <a:p>
            <a:pPr marL="382680" indent="-343080">
              <a:lnSpc>
                <a:spcPct val="100000"/>
              </a:lnSpc>
              <a:spcBef>
                <a:spcPts val="32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  <a:ea typeface="Arial"/>
              </a:rPr>
              <a:t>Only Some Enable App Integration (e.g. client-side standard filetype sharing)</a:t>
            </a: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"/>
          <p:cNvSpPr/>
          <p:nvPr/>
        </p:nvSpPr>
        <p:spPr>
          <a:xfrm>
            <a:off x="2587680" y="7937640"/>
            <a:ext cx="93369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57960" tIns="0" bIns="0" anchor="t">
            <a:spAutoFit/>
          </a:bodyPr>
          <a:p>
            <a:pPr>
              <a:lnSpc>
                <a:spcPct val="100000"/>
              </a:lnSpc>
              <a:spcBef>
                <a:spcPts val="3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Arial"/>
                <a:ea typeface="Arial"/>
              </a:rPr>
              <a:t>Things are about to change....</a:t>
            </a:r>
            <a:endParaRPr b="0" lang="en-US" sz="55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647640" y="119160"/>
            <a:ext cx="1170936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ctr">
            <a:noAutofit/>
          </a:bodyPr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Science Apps of Today</a:t>
            </a:r>
            <a:endParaRPr b="0" lang="en-US" sz="44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"/>
          <p:cNvSpPr/>
          <p:nvPr/>
        </p:nvSpPr>
        <p:spPr>
          <a:xfrm>
            <a:off x="0" y="0"/>
            <a:ext cx="13004640" cy="1193760"/>
          </a:xfrm>
          <a:prstGeom prst="rect">
            <a:avLst/>
          </a:prstGeom>
          <a:gradFill rotWithShape="0">
            <a:gsLst>
              <a:gs pos="0">
                <a:srgbClr val="33b319"/>
              </a:gs>
              <a:gs pos="100000">
                <a:srgbClr val="ecd8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329760" y="-3240"/>
            <a:ext cx="12534840" cy="1255680"/>
          </a:xfrm>
          <a:prstGeom prst="rect">
            <a:avLst/>
          </a:prstGeom>
          <a:noFill/>
          <a:ln w="0">
            <a:noFill/>
          </a:ln>
        </p:spPr>
        <p:txBody>
          <a:bodyPr lIns="50760" rIns="166320" tIns="50760" bIns="50760" anchor="ctr">
            <a:noAutofit/>
          </a:bodyPr>
          <a:p>
            <a:pPr marL="572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roducing PP Mobile / Accelrys Science-Clou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665280" y="1279080"/>
            <a:ext cx="11887200" cy="8572680"/>
          </a:xfrm>
          <a:prstGeom prst="rect">
            <a:avLst/>
          </a:prstGeom>
          <a:noFill/>
          <a:ln w="0">
            <a:noFill/>
          </a:ln>
        </p:spPr>
        <p:txBody>
          <a:bodyPr lIns="50760" rIns="16632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  <a:ea typeface="Arial"/>
              </a:rPr>
              <a:t>What is it?</a:t>
            </a: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An iOS application for iPhones and iPads (Android devices in the future)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A new Pipeline Pilot component collection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826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  <a:ea typeface="Arial"/>
              </a:rPr>
              <a:t>What does it do?</a:t>
            </a: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Allow any Pipeline Pilot PDF and HTML report to be easily deployed to mobile devices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Allow authoring of new Pipeline Pilot protocols to deploy dashboards and mobile-centered tasks and actions on mobile devices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826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  <a:ea typeface="Arial"/>
              </a:rPr>
              <a:t>Comments, Questions, and Requests to Participate in the testing program:</a:t>
            </a: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Ton van Daelen, Product Manager, Accelrys Science Cloud (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vd@accelrys.com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"/>
          <p:cNvSpPr/>
          <p:nvPr/>
        </p:nvSpPr>
        <p:spPr>
          <a:xfrm>
            <a:off x="0" y="0"/>
            <a:ext cx="13004640" cy="1193760"/>
          </a:xfrm>
          <a:prstGeom prst="rect">
            <a:avLst/>
          </a:prstGeom>
          <a:gradFill rotWithShape="0">
            <a:gsLst>
              <a:gs pos="0">
                <a:srgbClr val="33b319"/>
              </a:gs>
              <a:gs pos="100000">
                <a:srgbClr val="ecd8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55680" y="-1440"/>
            <a:ext cx="11709360" cy="1116000"/>
          </a:xfrm>
          <a:prstGeom prst="rect">
            <a:avLst/>
          </a:prstGeom>
          <a:noFill/>
          <a:ln w="0">
            <a:noFill/>
          </a:ln>
        </p:spPr>
        <p:txBody>
          <a:bodyPr lIns="50760" rIns="166320" tIns="50760" bIns="50760" anchor="ctr">
            <a:noAutofit/>
          </a:bodyPr>
          <a:p>
            <a:pPr marL="572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ploying Protocols on Mobile Devi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1" name="" descr=""/>
          <p:cNvPicPr/>
          <p:nvPr/>
        </p:nvPicPr>
        <p:blipFill>
          <a:blip r:embed="rId1"/>
          <a:stretch/>
        </p:blipFill>
        <p:spPr>
          <a:xfrm>
            <a:off x="304920" y="1498680"/>
            <a:ext cx="12115800" cy="778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2" name="" descr=""/>
          <p:cNvPicPr/>
          <p:nvPr/>
        </p:nvPicPr>
        <p:blipFill>
          <a:blip r:embed="rId1"/>
          <a:stretch/>
        </p:blipFill>
        <p:spPr>
          <a:xfrm>
            <a:off x="139680" y="1384200"/>
            <a:ext cx="12712680" cy="7925040"/>
          </a:xfrm>
          <a:prstGeom prst="rect">
            <a:avLst/>
          </a:prstGeom>
          <a:ln w="0">
            <a:noFill/>
          </a:ln>
        </p:spPr>
      </p:pic>
      <p:sp>
        <p:nvSpPr>
          <p:cNvPr id="613" name=""/>
          <p:cNvSpPr/>
          <p:nvPr/>
        </p:nvSpPr>
        <p:spPr>
          <a:xfrm>
            <a:off x="0" y="0"/>
            <a:ext cx="13004640" cy="1193760"/>
          </a:xfrm>
          <a:prstGeom prst="rect">
            <a:avLst/>
          </a:prstGeom>
          <a:gradFill rotWithShape="0">
            <a:gsLst>
              <a:gs pos="0">
                <a:srgbClr val="33b319"/>
              </a:gs>
              <a:gs pos="100000">
                <a:srgbClr val="ecd8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215640" y="-3240"/>
            <a:ext cx="12318840" cy="1255680"/>
          </a:xfrm>
          <a:prstGeom prst="rect">
            <a:avLst/>
          </a:prstGeom>
          <a:noFill/>
          <a:ln w="0">
            <a:noFill/>
          </a:ln>
        </p:spPr>
        <p:txBody>
          <a:bodyPr lIns="50760" rIns="166320" tIns="50760" bIns="50760" anchor="ctr">
            <a:noAutofit/>
          </a:bodyPr>
          <a:p>
            <a:pPr marL="572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bilize” Sophisticated Pipeline Pilot Protocols Protoco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